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20.png" ContentType="image/png"/>
  <Override PartName="/ppt/media/image12.png" ContentType="image/png"/>
  <Override PartName="/ppt/media/image6.wmf" ContentType="image/x-wmf"/>
  <Override PartName="/ppt/media/image19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27.jpeg" ContentType="image/jpeg"/>
  <Override PartName="/ppt/media/image22.jpeg" ContentType="image/jpeg"/>
  <Override PartName="/ppt/media/image21.jpeg" ContentType="image/jpeg"/>
  <Override PartName="/ppt/media/image16.png" ContentType="image/png"/>
  <Override PartName="/ppt/media/image18.jpeg" ContentType="image/jpeg"/>
  <Override PartName="/ppt/media/image15.png" ContentType="image/png"/>
  <Override PartName="/ppt/media/image24.png" ContentType="image/pn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9283700" cy="6983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DDB98-4FE8-4F0A-9DDE-1F8DE1CB44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8400" y="1460160"/>
            <a:ext cx="819144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98400" y="2822760"/>
            <a:ext cx="819144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28695-C195-4B36-815E-2F01CEAF81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98400" y="146016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95640" y="146016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8400" y="282276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895640" y="282276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9901D-D285-4804-8442-5B8F19BA2A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8400" y="1460160"/>
            <a:ext cx="263736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67880" y="1460160"/>
            <a:ext cx="263736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237720" y="1460160"/>
            <a:ext cx="263736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98400" y="2822760"/>
            <a:ext cx="263736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67880" y="2822760"/>
            <a:ext cx="263736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237720" y="2822760"/>
            <a:ext cx="263736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4C44A-CCDC-4698-9CD2-68659D9F77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98400" y="1460160"/>
            <a:ext cx="8191440" cy="26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8400" y="1460160"/>
            <a:ext cx="8191440" cy="26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98400" y="1460160"/>
            <a:ext cx="3997080" cy="26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5640" y="1460160"/>
            <a:ext cx="3997080" cy="26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28160" y="476640"/>
            <a:ext cx="8761320" cy="21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98400" y="146016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95640" y="1460160"/>
            <a:ext cx="3997080" cy="26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98400" y="282276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98400" y="1460160"/>
            <a:ext cx="8191440" cy="26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333CD-CAFB-488A-884F-EBF9069186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98400" y="1460160"/>
            <a:ext cx="3997080" cy="26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95640" y="146016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95640" y="282276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98400" y="146016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5640" y="146016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8400" y="2822760"/>
            <a:ext cx="819144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98400" y="1460160"/>
            <a:ext cx="819144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98400" y="2822760"/>
            <a:ext cx="819144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98400" y="146016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95640" y="146016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98400" y="282276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95640" y="282276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98400" y="1460160"/>
            <a:ext cx="263736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67880" y="1460160"/>
            <a:ext cx="263736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37720" y="1460160"/>
            <a:ext cx="263736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98400" y="2822760"/>
            <a:ext cx="263736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67880" y="2822760"/>
            <a:ext cx="263736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37720" y="2822760"/>
            <a:ext cx="263736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98400" y="1460160"/>
            <a:ext cx="8191440" cy="26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F7D70-0117-490D-B5BF-881853A15A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98400" y="1460160"/>
            <a:ext cx="3997080" cy="26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95640" y="1460160"/>
            <a:ext cx="3997080" cy="26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34C8F-115F-446D-9150-B38EE62D4F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36DDA-264C-4330-90B1-0DF4B8EB20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28160" y="476640"/>
            <a:ext cx="8761320" cy="21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A3EAD-25A5-4D3C-A351-FFA2D3B84E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98400" y="146016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5640" y="1460160"/>
            <a:ext cx="3997080" cy="26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98400" y="282276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90DE4-5720-4412-B069-71F3E835BE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98400" y="1460160"/>
            <a:ext cx="3997080" cy="26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5640" y="146016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895640" y="282276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B95B3-43D8-4159-ABFE-32820BA085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8400" y="146016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95640" y="146016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8400" y="2822760"/>
            <a:ext cx="819144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6A942-F3DD-4BEA-8C75-D5F2E004F1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wm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847880" y="6303960"/>
            <a:ext cx="541656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ftGlueZynq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3" descr=""/>
          <p:cNvPicPr/>
          <p:nvPr/>
        </p:nvPicPr>
        <p:blipFill>
          <a:blip r:embed="rId2"/>
          <a:stretch/>
        </p:blipFill>
        <p:spPr>
          <a:xfrm>
            <a:off x="214200" y="6303960"/>
            <a:ext cx="400320" cy="365040"/>
          </a:xfrm>
          <a:prstGeom prst="rect">
            <a:avLst/>
          </a:prstGeom>
          <a:ln w="0">
            <a:noFill/>
          </a:ln>
        </p:spPr>
      </p:pic>
      <p:sp>
        <p:nvSpPr>
          <p:cNvPr id="2" name="Line 4"/>
          <p:cNvSpPr/>
          <p:nvPr/>
        </p:nvSpPr>
        <p:spPr>
          <a:xfrm>
            <a:off x="227160" y="6262560"/>
            <a:ext cx="8662680" cy="0"/>
          </a:xfrm>
          <a:prstGeom prst="line">
            <a:avLst/>
          </a:prstGeom>
          <a:ln w="12600">
            <a:solidFill>
              <a:srgbClr val="c28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698400" y="1460160"/>
            <a:ext cx="8191440" cy="26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8631360" y="6031080"/>
            <a:ext cx="358560" cy="3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8C0C3-0FF6-4CA3-807C-6919A7A977F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592200" y="6293520"/>
            <a:ext cx="1333440" cy="4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28500"/>
                </a:solidFill>
                <a:latin typeface="Arial"/>
              </a:rPr>
              <a:t>Pioneering </a:t>
            </a:r>
            <a:br>
              <a:rPr sz="800"/>
            </a:br>
            <a:r>
              <a:rPr b="1" lang="en-US" sz="800" spc="-1" strike="noStrike">
                <a:solidFill>
                  <a:srgbClr val="c28500"/>
                </a:solidFill>
                <a:latin typeface="Arial"/>
              </a:rPr>
              <a:t>Science and</a:t>
            </a:r>
            <a:br>
              <a:rPr sz="800"/>
            </a:br>
            <a:r>
              <a:rPr b="1" lang="en-US" sz="800" spc="-1" strike="noStrike">
                <a:solidFill>
                  <a:srgbClr val="c28500"/>
                </a:solidFill>
                <a:latin typeface="Arial"/>
              </a:rPr>
              <a:t>Technology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227160" y="920880"/>
            <a:ext cx="8642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7167600" y="6282360"/>
            <a:ext cx="1136520" cy="4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28500"/>
                </a:solidFill>
                <a:latin typeface="Arial"/>
              </a:rPr>
              <a:t>Office of Science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285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c28500"/>
                </a:solidFill>
                <a:latin typeface="Arial"/>
              </a:rPr>
              <a:t>U.S. Department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28500"/>
                </a:solidFill>
                <a:latin typeface="Arial"/>
              </a:rPr>
              <a:t>of Energy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8305920" y="6297480"/>
            <a:ext cx="608040" cy="365040"/>
            <a:chOff x="8305920" y="6297480"/>
            <a:chExt cx="608040" cy="365040"/>
          </a:xfrm>
        </p:grpSpPr>
        <p:pic>
          <p:nvPicPr>
            <p:cNvPr id="9" name="Picture 11" descr=""/>
            <p:cNvPicPr/>
            <p:nvPr/>
          </p:nvPicPr>
          <p:blipFill>
            <a:blip r:embed="rId3"/>
            <a:stretch/>
          </p:blipFill>
          <p:spPr>
            <a:xfrm>
              <a:off x="8305920" y="6297480"/>
              <a:ext cx="60804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Oval 12"/>
            <p:cNvSpPr/>
            <p:nvPr/>
          </p:nvSpPr>
          <p:spPr>
            <a:xfrm>
              <a:off x="8566200" y="6443640"/>
              <a:ext cx="76320" cy="75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spAutoFit/>
            </a:bodyPr>
            <a:p>
              <a:pPr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Picture 14" descr="logo101"/>
          <p:cNvPicPr/>
          <p:nvPr/>
        </p:nvPicPr>
        <p:blipFill>
          <a:blip r:embed="rId4"/>
          <a:stretch/>
        </p:blipFill>
        <p:spPr>
          <a:xfrm>
            <a:off x="8291520" y="39600"/>
            <a:ext cx="812880" cy="814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3"/>
          <p:cNvSpPr/>
          <p:nvPr/>
        </p:nvSpPr>
        <p:spPr>
          <a:xfrm>
            <a:off x="3319560" y="5894280"/>
            <a:ext cx="5257800" cy="7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 U.S. Department of Energy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ffice of Science Laborator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perated by The University of Chicag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5" descr=""/>
          <p:cNvPicPr/>
          <p:nvPr/>
        </p:nvPicPr>
        <p:blipFill>
          <a:blip r:embed="rId2"/>
          <a:stretch/>
        </p:blipFill>
        <p:spPr>
          <a:xfrm>
            <a:off x="8215200" y="5977080"/>
            <a:ext cx="547920" cy="550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" descr=""/>
          <p:cNvPicPr/>
          <p:nvPr/>
        </p:nvPicPr>
        <p:blipFill>
          <a:blip r:embed="rId3"/>
          <a:stretch/>
        </p:blipFill>
        <p:spPr>
          <a:xfrm>
            <a:off x="7583400" y="5977080"/>
            <a:ext cx="443160" cy="550800"/>
          </a:xfrm>
          <a:prstGeom prst="rect">
            <a:avLst/>
          </a:prstGeom>
          <a:ln w="0">
            <a:noFill/>
          </a:ln>
        </p:spPr>
      </p:pic>
      <p:sp>
        <p:nvSpPr>
          <p:cNvPr id="52" name="Line 6"/>
          <p:cNvSpPr/>
          <p:nvPr/>
        </p:nvSpPr>
        <p:spPr>
          <a:xfrm>
            <a:off x="2557440" y="5821200"/>
            <a:ext cx="6200640" cy="0"/>
          </a:xfrm>
          <a:prstGeom prst="line">
            <a:avLst/>
          </a:prstGeom>
          <a:ln w="19080">
            <a:solidFill>
              <a:srgbClr val="c28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2475000" y="5506200"/>
            <a:ext cx="498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9"/>
          <p:cNvSpPr/>
          <p:nvPr/>
        </p:nvSpPr>
        <p:spPr>
          <a:xfrm>
            <a:off x="2553480" y="6405480"/>
            <a:ext cx="712440" cy="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5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1a1818"/>
                </a:solidFill>
                <a:latin typeface="Arial"/>
              </a:rPr>
              <a:t>Office of Science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>
            <a:off x="2593080" y="6486480"/>
            <a:ext cx="633240" cy="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5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1a1818"/>
                </a:solidFill>
                <a:latin typeface="Arial"/>
              </a:rPr>
              <a:t>U.S. Department of Energy</a:t>
            </a: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21"/>
          <p:cNvGrpSpPr/>
          <p:nvPr/>
        </p:nvGrpSpPr>
        <p:grpSpPr>
          <a:xfrm>
            <a:off x="2558880" y="5979960"/>
            <a:ext cx="698760" cy="374760"/>
            <a:chOff x="2558880" y="5979960"/>
            <a:chExt cx="698760" cy="374760"/>
          </a:xfrm>
        </p:grpSpPr>
        <p:pic>
          <p:nvPicPr>
            <p:cNvPr id="57" name="Picture 22" descr=""/>
            <p:cNvPicPr/>
            <p:nvPr/>
          </p:nvPicPr>
          <p:blipFill>
            <a:blip r:embed="rId4"/>
            <a:stretch/>
          </p:blipFill>
          <p:spPr>
            <a:xfrm>
              <a:off x="2558880" y="5979960"/>
              <a:ext cx="698760" cy="3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Oval 23"/>
            <p:cNvSpPr/>
            <p:nvPr/>
          </p:nvSpPr>
          <p:spPr>
            <a:xfrm>
              <a:off x="2863800" y="6134040"/>
              <a:ext cx="82440" cy="82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spAutoFit/>
            </a:bodyPr>
            <a:p>
              <a:pPr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" name="Picture 15" descr="logo101"/>
          <p:cNvPicPr/>
          <p:nvPr/>
        </p:nvPicPr>
        <p:blipFill>
          <a:blip r:embed="rId5"/>
          <a:stretch/>
        </p:blipFill>
        <p:spPr>
          <a:xfrm>
            <a:off x="8291520" y="39600"/>
            <a:ext cx="812880" cy="8143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98400" y="1460160"/>
            <a:ext cx="8191440" cy="26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5.jpeg"/><Relationship Id="rId3" Type="http://schemas.openxmlformats.org/officeDocument/2006/relationships/image" Target="../media/image25.jpeg"/><Relationship Id="rId4" Type="http://schemas.openxmlformats.org/officeDocument/2006/relationships/image" Target="../media/image25.jpeg"/><Relationship Id="rId5" Type="http://schemas.openxmlformats.org/officeDocument/2006/relationships/image" Target="../media/image25.jpeg"/><Relationship Id="rId6" Type="http://schemas.openxmlformats.org/officeDocument/2006/relationships/image" Target="../media/image25.jpeg"/><Relationship Id="rId7" Type="http://schemas.openxmlformats.org/officeDocument/2006/relationships/image" Target="../media/image25.jpeg"/><Relationship Id="rId8" Type="http://schemas.openxmlformats.org/officeDocument/2006/relationships/image" Target="../media/image25.jpe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914400" y="666360"/>
            <a:ext cx="7324560" cy="73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ICS and Custom Beamline Electronics on the MicroZ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softGlueZynq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914400" y="1405080"/>
            <a:ext cx="732456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im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one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WG - March16, 201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1797120" y="2143080"/>
            <a:ext cx="5578560" cy="316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dditional circuit elements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560" y="1223640"/>
            <a:ext cx="4638600" cy="28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stogramming Scal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ke a MCS, but SYNC sets current channel to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4 time bins, channel advance at up to 50 MHz (fast version up to 250 MH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5073480" y="1224000"/>
            <a:ext cx="3727800" cy="15620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"/>
          <p:cNvPicPr/>
          <p:nvPr/>
        </p:nvPicPr>
        <p:blipFill>
          <a:blip r:embed="rId2"/>
          <a:srcRect l="0" t="0" r="0" b="48810"/>
          <a:stretch/>
        </p:blipFill>
        <p:spPr>
          <a:xfrm>
            <a:off x="0" y="3749760"/>
            <a:ext cx="6559560" cy="252576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3"/>
          <p:cNvSpPr/>
          <p:nvPr/>
        </p:nvSpPr>
        <p:spPr>
          <a:xfrm>
            <a:off x="317520" y="3336840"/>
            <a:ext cx="677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iezoDiffraction data (Phil Ryan - 6idb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"/>
          <p:cNvSpPr/>
          <p:nvPr/>
        </p:nvSpPr>
        <p:spPr>
          <a:xfrm rot="20034000">
            <a:off x="7272000" y="4787640"/>
            <a:ext cx="849240" cy="1490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traight Connector 5"/>
          <p:cNvSpPr/>
          <p:nvPr/>
        </p:nvSpPr>
        <p:spPr>
          <a:xfrm flipH="1">
            <a:off x="6690960" y="4794120"/>
            <a:ext cx="973080" cy="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traight Connector 7"/>
          <p:cNvSpPr/>
          <p:nvPr/>
        </p:nvSpPr>
        <p:spPr>
          <a:xfrm flipV="1">
            <a:off x="7664400" y="4024440"/>
            <a:ext cx="447840" cy="76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16"/>
          <p:cNvGrpSpPr/>
          <p:nvPr/>
        </p:nvGrpSpPr>
        <p:grpSpPr>
          <a:xfrm>
            <a:off x="6724800" y="5403600"/>
            <a:ext cx="370800" cy="190800"/>
            <a:chOff x="6724800" y="5403600"/>
            <a:chExt cx="370800" cy="190800"/>
          </a:xfrm>
        </p:grpSpPr>
        <p:grpSp>
          <p:nvGrpSpPr>
            <p:cNvPr id="155" name="Group 14"/>
            <p:cNvGrpSpPr/>
            <p:nvPr/>
          </p:nvGrpSpPr>
          <p:grpSpPr>
            <a:xfrm>
              <a:off x="6724800" y="5403600"/>
              <a:ext cx="185400" cy="190800"/>
              <a:chOff x="6724800" y="5403600"/>
              <a:chExt cx="185400" cy="190800"/>
            </a:xfrm>
          </p:grpSpPr>
          <p:sp>
            <p:nvSpPr>
              <p:cNvPr id="156" name="Straight Connector 9"/>
              <p:cNvSpPr/>
              <p:nvPr/>
            </p:nvSpPr>
            <p:spPr>
              <a:xfrm flipV="1">
                <a:off x="6724800" y="5403600"/>
                <a:ext cx="97920" cy="19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Straight Connector 13"/>
              <p:cNvSpPr/>
              <p:nvPr/>
            </p:nvSpPr>
            <p:spPr>
              <a:xfrm>
                <a:off x="6822720" y="5403960"/>
                <a:ext cx="87480" cy="19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21"/>
            <p:cNvGrpSpPr/>
            <p:nvPr/>
          </p:nvGrpSpPr>
          <p:grpSpPr>
            <a:xfrm>
              <a:off x="6910200" y="5403600"/>
              <a:ext cx="185400" cy="190800"/>
              <a:chOff x="6910200" y="5403600"/>
              <a:chExt cx="185400" cy="190800"/>
            </a:xfrm>
          </p:grpSpPr>
          <p:sp>
            <p:nvSpPr>
              <p:cNvPr id="159" name="Straight Connector 22"/>
              <p:cNvSpPr/>
              <p:nvPr/>
            </p:nvSpPr>
            <p:spPr>
              <a:xfrm flipV="1">
                <a:off x="6910200" y="5403600"/>
                <a:ext cx="97920" cy="19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Straight Connector 23"/>
              <p:cNvSpPr/>
              <p:nvPr/>
            </p:nvSpPr>
            <p:spPr>
              <a:xfrm>
                <a:off x="7008120" y="5403960"/>
                <a:ext cx="87480" cy="19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1" name="Group 25"/>
          <p:cNvGrpSpPr/>
          <p:nvPr/>
        </p:nvGrpSpPr>
        <p:grpSpPr>
          <a:xfrm>
            <a:off x="7095960" y="5403600"/>
            <a:ext cx="371520" cy="190800"/>
            <a:chOff x="7095960" y="5403600"/>
            <a:chExt cx="371520" cy="190800"/>
          </a:xfrm>
        </p:grpSpPr>
        <p:grpSp>
          <p:nvGrpSpPr>
            <p:cNvPr id="162" name="Group 26"/>
            <p:cNvGrpSpPr/>
            <p:nvPr/>
          </p:nvGrpSpPr>
          <p:grpSpPr>
            <a:xfrm>
              <a:off x="7095960" y="5403600"/>
              <a:ext cx="185760" cy="190800"/>
              <a:chOff x="7095960" y="5403600"/>
              <a:chExt cx="185760" cy="190800"/>
            </a:xfrm>
          </p:grpSpPr>
          <p:sp>
            <p:nvSpPr>
              <p:cNvPr id="163" name="Straight Connector 30"/>
              <p:cNvSpPr/>
              <p:nvPr/>
            </p:nvSpPr>
            <p:spPr>
              <a:xfrm flipV="1">
                <a:off x="7095960" y="5403600"/>
                <a:ext cx="98280" cy="19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Straight Connector 31"/>
              <p:cNvSpPr/>
              <p:nvPr/>
            </p:nvSpPr>
            <p:spPr>
              <a:xfrm>
                <a:off x="7194240" y="5403960"/>
                <a:ext cx="87480" cy="19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" name="Group 27"/>
            <p:cNvGrpSpPr/>
            <p:nvPr/>
          </p:nvGrpSpPr>
          <p:grpSpPr>
            <a:xfrm>
              <a:off x="7281720" y="5403600"/>
              <a:ext cx="185760" cy="190800"/>
              <a:chOff x="7281720" y="5403600"/>
              <a:chExt cx="185760" cy="190800"/>
            </a:xfrm>
          </p:grpSpPr>
          <p:sp>
            <p:nvSpPr>
              <p:cNvPr id="166" name="Straight Connector 28"/>
              <p:cNvSpPr/>
              <p:nvPr/>
            </p:nvSpPr>
            <p:spPr>
              <a:xfrm flipV="1">
                <a:off x="7281720" y="5403600"/>
                <a:ext cx="98280" cy="19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Straight Connector 29"/>
              <p:cNvSpPr/>
              <p:nvPr/>
            </p:nvSpPr>
            <p:spPr>
              <a:xfrm>
                <a:off x="7380000" y="5403960"/>
                <a:ext cx="87480" cy="19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8" name="Isosceles Triangle 17"/>
          <p:cNvSpPr/>
          <p:nvPr/>
        </p:nvSpPr>
        <p:spPr>
          <a:xfrm rot="5400000">
            <a:off x="7702200" y="5372280"/>
            <a:ext cx="320760" cy="2538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traight Connector 14336"/>
          <p:cNvSpPr/>
          <p:nvPr/>
        </p:nvSpPr>
        <p:spPr>
          <a:xfrm flipH="1" flipV="1">
            <a:off x="7543800" y="5495400"/>
            <a:ext cx="19224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14345"/>
          <p:cNvSpPr/>
          <p:nvPr/>
        </p:nvSpPr>
        <p:spPr>
          <a:xfrm>
            <a:off x="7937640" y="4807080"/>
            <a:ext cx="209520" cy="647640"/>
          </a:xfrm>
          <a:custGeom>
            <a:avLst/>
            <a:gdLst/>
            <a:ahLst/>
            <a:rect l="l" t="t" r="r" b="b"/>
            <a:pathLst>
              <a:path w="209550" h="647736">
                <a:moveTo>
                  <a:pt x="76200" y="0"/>
                </a:moveTo>
                <a:cubicBezTo>
                  <a:pt x="103103" y="44838"/>
                  <a:pt x="84981" y="24904"/>
                  <a:pt x="133350" y="57150"/>
                </a:cubicBezTo>
                <a:lnTo>
                  <a:pt x="152400" y="69850"/>
                </a:lnTo>
                <a:cubicBezTo>
                  <a:pt x="181307" y="156571"/>
                  <a:pt x="149770" y="67946"/>
                  <a:pt x="177800" y="133350"/>
                </a:cubicBezTo>
                <a:cubicBezTo>
                  <a:pt x="193152" y="169170"/>
                  <a:pt x="174388" y="134836"/>
                  <a:pt x="190500" y="177800"/>
                </a:cubicBezTo>
                <a:cubicBezTo>
                  <a:pt x="215404" y="244212"/>
                  <a:pt x="193251" y="163402"/>
                  <a:pt x="209550" y="228600"/>
                </a:cubicBezTo>
                <a:cubicBezTo>
                  <a:pt x="207433" y="275167"/>
                  <a:pt x="208166" y="321951"/>
                  <a:pt x="203200" y="368300"/>
                </a:cubicBezTo>
                <a:cubicBezTo>
                  <a:pt x="201774" y="381611"/>
                  <a:pt x="194733" y="393700"/>
                  <a:pt x="190500" y="406400"/>
                </a:cubicBezTo>
                <a:lnTo>
                  <a:pt x="184150" y="425450"/>
                </a:lnTo>
                <a:cubicBezTo>
                  <a:pt x="182033" y="431800"/>
                  <a:pt x="181513" y="438931"/>
                  <a:pt x="177800" y="444500"/>
                </a:cubicBezTo>
                <a:lnTo>
                  <a:pt x="152400" y="482600"/>
                </a:lnTo>
                <a:cubicBezTo>
                  <a:pt x="148167" y="488950"/>
                  <a:pt x="146050" y="497417"/>
                  <a:pt x="139700" y="501650"/>
                </a:cubicBezTo>
                <a:lnTo>
                  <a:pt x="120650" y="514350"/>
                </a:lnTo>
                <a:cubicBezTo>
                  <a:pt x="106350" y="557250"/>
                  <a:pt x="126182" y="510749"/>
                  <a:pt x="95250" y="546100"/>
                </a:cubicBezTo>
                <a:cubicBezTo>
                  <a:pt x="85199" y="557587"/>
                  <a:pt x="78317" y="571500"/>
                  <a:pt x="69850" y="584200"/>
                </a:cubicBezTo>
                <a:cubicBezTo>
                  <a:pt x="65617" y="590550"/>
                  <a:pt x="63500" y="599017"/>
                  <a:pt x="57150" y="603250"/>
                </a:cubicBezTo>
                <a:lnTo>
                  <a:pt x="19050" y="628650"/>
                </a:lnTo>
                <a:cubicBezTo>
                  <a:pt x="5176" y="649461"/>
                  <a:pt x="13982" y="647700"/>
                  <a:pt x="0" y="64770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14346"/>
          <p:cNvSpPr/>
          <p:nvPr/>
        </p:nvSpPr>
        <p:spPr>
          <a:xfrm>
            <a:off x="7918560" y="4527720"/>
            <a:ext cx="392040" cy="1079280"/>
          </a:xfrm>
          <a:custGeom>
            <a:avLst/>
            <a:gdLst/>
            <a:ahLst/>
            <a:rect l="l" t="t" r="r" b="b"/>
            <a:pathLst>
              <a:path w="391883" h="1079500">
                <a:moveTo>
                  <a:pt x="44450" y="107950"/>
                </a:moveTo>
                <a:cubicBezTo>
                  <a:pt x="69455" y="45437"/>
                  <a:pt x="41325" y="98375"/>
                  <a:pt x="76200" y="63500"/>
                </a:cubicBezTo>
                <a:cubicBezTo>
                  <a:pt x="81596" y="58104"/>
                  <a:pt x="82428" y="48495"/>
                  <a:pt x="88900" y="44450"/>
                </a:cubicBezTo>
                <a:cubicBezTo>
                  <a:pt x="100252" y="37355"/>
                  <a:pt x="115861" y="39176"/>
                  <a:pt x="127000" y="31750"/>
                </a:cubicBezTo>
                <a:cubicBezTo>
                  <a:pt x="181595" y="-4646"/>
                  <a:pt x="112520" y="38990"/>
                  <a:pt x="165100" y="12700"/>
                </a:cubicBezTo>
                <a:cubicBezTo>
                  <a:pt x="171926" y="9287"/>
                  <a:pt x="177800" y="4233"/>
                  <a:pt x="184150" y="0"/>
                </a:cubicBezTo>
                <a:cubicBezTo>
                  <a:pt x="195193" y="1578"/>
                  <a:pt x="232304" y="4175"/>
                  <a:pt x="247650" y="12700"/>
                </a:cubicBezTo>
                <a:cubicBezTo>
                  <a:pt x="260993" y="20113"/>
                  <a:pt x="273050" y="29633"/>
                  <a:pt x="285750" y="38100"/>
                </a:cubicBezTo>
                <a:lnTo>
                  <a:pt x="304800" y="50800"/>
                </a:lnTo>
                <a:lnTo>
                  <a:pt x="330200" y="88900"/>
                </a:lnTo>
                <a:cubicBezTo>
                  <a:pt x="334433" y="95250"/>
                  <a:pt x="340487" y="100710"/>
                  <a:pt x="342900" y="107950"/>
                </a:cubicBezTo>
                <a:lnTo>
                  <a:pt x="361950" y="165100"/>
                </a:lnTo>
                <a:cubicBezTo>
                  <a:pt x="364067" y="171450"/>
                  <a:pt x="366677" y="177656"/>
                  <a:pt x="368300" y="184150"/>
                </a:cubicBezTo>
                <a:cubicBezTo>
                  <a:pt x="376273" y="216044"/>
                  <a:pt x="371890" y="201271"/>
                  <a:pt x="381000" y="228600"/>
                </a:cubicBezTo>
                <a:cubicBezTo>
                  <a:pt x="398477" y="385897"/>
                  <a:pt x="392210" y="306941"/>
                  <a:pt x="381000" y="609600"/>
                </a:cubicBezTo>
                <a:cubicBezTo>
                  <a:pt x="380752" y="616289"/>
                  <a:pt x="375963" y="622086"/>
                  <a:pt x="374650" y="628650"/>
                </a:cubicBezTo>
                <a:cubicBezTo>
                  <a:pt x="369600" y="653900"/>
                  <a:pt x="370093" y="680421"/>
                  <a:pt x="361950" y="704850"/>
                </a:cubicBezTo>
                <a:cubicBezTo>
                  <a:pt x="359833" y="711200"/>
                  <a:pt x="357361" y="717442"/>
                  <a:pt x="355600" y="723900"/>
                </a:cubicBezTo>
                <a:cubicBezTo>
                  <a:pt x="351007" y="740739"/>
                  <a:pt x="347133" y="757767"/>
                  <a:pt x="342900" y="774700"/>
                </a:cubicBezTo>
                <a:cubicBezTo>
                  <a:pt x="340783" y="783167"/>
                  <a:pt x="339310" y="791821"/>
                  <a:pt x="336550" y="800100"/>
                </a:cubicBezTo>
                <a:lnTo>
                  <a:pt x="304800" y="895350"/>
                </a:lnTo>
                <a:lnTo>
                  <a:pt x="292100" y="933450"/>
                </a:lnTo>
                <a:cubicBezTo>
                  <a:pt x="289983" y="939800"/>
                  <a:pt x="289463" y="946931"/>
                  <a:pt x="285750" y="952500"/>
                </a:cubicBezTo>
                <a:cubicBezTo>
                  <a:pt x="270976" y="974661"/>
                  <a:pt x="261960" y="993581"/>
                  <a:pt x="241300" y="1009650"/>
                </a:cubicBezTo>
                <a:cubicBezTo>
                  <a:pt x="229252" y="1019021"/>
                  <a:pt x="215900" y="1026583"/>
                  <a:pt x="203200" y="1035050"/>
                </a:cubicBezTo>
                <a:cubicBezTo>
                  <a:pt x="148605" y="1071446"/>
                  <a:pt x="217680" y="1027810"/>
                  <a:pt x="165100" y="1054100"/>
                </a:cubicBezTo>
                <a:cubicBezTo>
                  <a:pt x="158274" y="1057513"/>
                  <a:pt x="153024" y="1063700"/>
                  <a:pt x="146050" y="1066800"/>
                </a:cubicBezTo>
                <a:cubicBezTo>
                  <a:pt x="133817" y="1072237"/>
                  <a:pt x="107950" y="1079500"/>
                  <a:pt x="107950" y="1079500"/>
                </a:cubicBezTo>
                <a:cubicBezTo>
                  <a:pt x="83835" y="1077088"/>
                  <a:pt x="22992" y="1081034"/>
                  <a:pt x="6350" y="1047750"/>
                </a:cubicBezTo>
                <a:lnTo>
                  <a:pt x="0" y="1035050"/>
                </a:ln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ounded Rectangle 14347"/>
          <p:cNvSpPr/>
          <p:nvPr/>
        </p:nvSpPr>
        <p:spPr>
          <a:xfrm>
            <a:off x="200160" y="1224000"/>
            <a:ext cx="4743360" cy="2125800"/>
          </a:xfrm>
          <a:prstGeom prst="roundRect">
            <a:avLst>
              <a:gd name="adj" fmla="val 11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dditional circuit elements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560" y="1224000"/>
            <a:ext cx="4638600" cy="245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95640" indent="-33912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ixelTrig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k location of focal spot on sample (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Z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 triggers from focal spot mo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specifies pixel size in interferometer tic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6" descr=""/>
          <p:cNvPicPr/>
          <p:nvPr/>
        </p:nvPicPr>
        <p:blipFill>
          <a:blip r:embed="rId1"/>
          <a:stretch/>
        </p:blipFill>
        <p:spPr>
          <a:xfrm>
            <a:off x="5699160" y="1174680"/>
            <a:ext cx="3190680" cy="2373480"/>
          </a:xfrm>
          <a:prstGeom prst="rect">
            <a:avLst/>
          </a:prstGeom>
          <a:ln w="0">
            <a:noFill/>
          </a:ln>
        </p:spPr>
      </p:pic>
      <p:grpSp>
        <p:nvGrpSpPr>
          <p:cNvPr id="176" name="Group 54"/>
          <p:cNvGrpSpPr/>
          <p:nvPr/>
        </p:nvGrpSpPr>
        <p:grpSpPr>
          <a:xfrm>
            <a:off x="1374840" y="3726000"/>
            <a:ext cx="6584760" cy="2236680"/>
            <a:chOff x="1374840" y="3726000"/>
            <a:chExt cx="6584760" cy="2236680"/>
          </a:xfrm>
        </p:grpSpPr>
        <p:grpSp>
          <p:nvGrpSpPr>
            <p:cNvPr id="177" name="Group 19"/>
            <p:cNvGrpSpPr/>
            <p:nvPr/>
          </p:nvGrpSpPr>
          <p:grpSpPr>
            <a:xfrm>
              <a:off x="1374840" y="3726000"/>
              <a:ext cx="2438640" cy="868680"/>
              <a:chOff x="1374840" y="3726000"/>
              <a:chExt cx="2438640" cy="868680"/>
            </a:xfrm>
          </p:grpSpPr>
          <p:grpSp>
            <p:nvGrpSpPr>
              <p:cNvPr id="178" name="Group 3"/>
              <p:cNvGrpSpPr/>
              <p:nvPr/>
            </p:nvGrpSpPr>
            <p:grpSpPr>
              <a:xfrm>
                <a:off x="2452320" y="3857760"/>
                <a:ext cx="174240" cy="595080"/>
                <a:chOff x="2452320" y="3857760"/>
                <a:chExt cx="174240" cy="595080"/>
              </a:xfrm>
            </p:grpSpPr>
            <p:sp>
              <p:nvSpPr>
                <p:cNvPr id="179" name="Arc 1"/>
                <p:cNvSpPr/>
                <p:nvPr/>
              </p:nvSpPr>
              <p:spPr>
                <a:xfrm>
                  <a:off x="2452680" y="3857760"/>
                  <a:ext cx="173880" cy="595080"/>
                </a:xfrm>
                <a:custGeom>
                  <a:avLst/>
                  <a:gdLst/>
                  <a:ahLst/>
                  <a:rect l="l" t="t" r="r" b="b"/>
                  <a:pathLst>
                    <a:path stroke="0" w="174603" h="595229">
                      <a:moveTo>
                        <a:pt x="87301" y="0"/>
                      </a:moveTo>
                      <a:cubicBezTo>
                        <a:pt x="135517" y="0"/>
                        <a:pt x="174603" y="133247"/>
                        <a:pt x="174603" y="297615"/>
                      </a:cubicBezTo>
                      <a:lnTo>
                        <a:pt x="87302" y="297615"/>
                      </a:lnTo>
                      <a:cubicBezTo>
                        <a:pt x="87302" y="198410"/>
                        <a:pt x="87301" y="99205"/>
                        <a:pt x="87301" y="0"/>
                      </a:cubicBezTo>
                      <a:close/>
                    </a:path>
                    <a:path fill="none" w="174603" h="595229">
                      <a:moveTo>
                        <a:pt x="87301" y="0"/>
                      </a:moveTo>
                      <a:cubicBezTo>
                        <a:pt x="135517" y="0"/>
                        <a:pt x="174603" y="133247"/>
                        <a:pt x="174603" y="297615"/>
                      </a:cubicBezTo>
                    </a:path>
                  </a:pathLst>
                </a:custGeom>
                <a:noFill/>
                <a:ln w="9360">
                  <a:solidFill>
                    <a:srgbClr val="000000">
                      <a:alpha val="98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Arc 7"/>
                <p:cNvSpPr/>
                <p:nvPr/>
              </p:nvSpPr>
              <p:spPr>
                <a:xfrm flipH="1">
                  <a:off x="2451960" y="3857760"/>
                  <a:ext cx="173880" cy="595080"/>
                </a:xfrm>
                <a:custGeom>
                  <a:avLst/>
                  <a:gdLst/>
                  <a:ahLst/>
                  <a:rect l="l" t="t" r="r" b="b"/>
                  <a:pathLst>
                    <a:path stroke="0" w="174603" h="595229">
                      <a:moveTo>
                        <a:pt x="87301" y="0"/>
                      </a:moveTo>
                      <a:cubicBezTo>
                        <a:pt x="135517" y="0"/>
                        <a:pt x="174603" y="133247"/>
                        <a:pt x="174603" y="297615"/>
                      </a:cubicBezTo>
                      <a:lnTo>
                        <a:pt x="87302" y="297615"/>
                      </a:lnTo>
                      <a:cubicBezTo>
                        <a:pt x="87302" y="198410"/>
                        <a:pt x="87301" y="99205"/>
                        <a:pt x="87301" y="0"/>
                      </a:cubicBezTo>
                      <a:close/>
                    </a:path>
                    <a:path fill="none" w="174603" h="595229">
                      <a:moveTo>
                        <a:pt x="87301" y="0"/>
                      </a:moveTo>
                      <a:cubicBezTo>
                        <a:pt x="135517" y="0"/>
                        <a:pt x="174603" y="133247"/>
                        <a:pt x="174603" y="297615"/>
                      </a:cubicBezTo>
                    </a:path>
                  </a:pathLst>
                </a:custGeom>
                <a:noFill/>
                <a:ln w="9360">
                  <a:solidFill>
                    <a:srgbClr val="000000">
                      <a:alpha val="98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1" name="Group 9"/>
              <p:cNvGrpSpPr/>
              <p:nvPr/>
            </p:nvGrpSpPr>
            <p:grpSpPr>
              <a:xfrm>
                <a:off x="2452320" y="3857400"/>
                <a:ext cx="174240" cy="595080"/>
                <a:chOff x="2452320" y="3857400"/>
                <a:chExt cx="174240" cy="595080"/>
              </a:xfrm>
            </p:grpSpPr>
            <p:sp>
              <p:nvSpPr>
                <p:cNvPr id="182" name="Arc 10"/>
                <p:cNvSpPr/>
                <p:nvPr/>
              </p:nvSpPr>
              <p:spPr>
                <a:xfrm flipV="1">
                  <a:off x="2452680" y="3857040"/>
                  <a:ext cx="173880" cy="595080"/>
                </a:xfrm>
                <a:custGeom>
                  <a:avLst/>
                  <a:gdLst/>
                  <a:ahLst/>
                  <a:rect l="l" t="t" r="r" b="b"/>
                  <a:pathLst>
                    <a:path stroke="0" w="174603" h="595229">
                      <a:moveTo>
                        <a:pt x="87301" y="0"/>
                      </a:moveTo>
                      <a:cubicBezTo>
                        <a:pt x="135517" y="0"/>
                        <a:pt x="174603" y="133247"/>
                        <a:pt x="174603" y="297615"/>
                      </a:cubicBezTo>
                      <a:lnTo>
                        <a:pt x="87302" y="297615"/>
                      </a:lnTo>
                      <a:cubicBezTo>
                        <a:pt x="87302" y="198410"/>
                        <a:pt x="87301" y="99205"/>
                        <a:pt x="87301" y="0"/>
                      </a:cubicBezTo>
                      <a:close/>
                    </a:path>
                    <a:path fill="none" w="174603" h="595229">
                      <a:moveTo>
                        <a:pt x="87301" y="0"/>
                      </a:moveTo>
                      <a:cubicBezTo>
                        <a:pt x="135517" y="0"/>
                        <a:pt x="174603" y="133247"/>
                        <a:pt x="174603" y="297615"/>
                      </a:cubicBezTo>
                    </a:path>
                  </a:pathLst>
                </a:custGeom>
                <a:noFill/>
                <a:ln w="9360">
                  <a:solidFill>
                    <a:srgbClr val="000000">
                      <a:alpha val="98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Arc 11"/>
                <p:cNvSpPr/>
                <p:nvPr/>
              </p:nvSpPr>
              <p:spPr>
                <a:xfrm flipH="1" flipV="1">
                  <a:off x="2451960" y="3857040"/>
                  <a:ext cx="173880" cy="595080"/>
                </a:xfrm>
                <a:custGeom>
                  <a:avLst/>
                  <a:gdLst/>
                  <a:ahLst/>
                  <a:rect l="l" t="t" r="r" b="b"/>
                  <a:pathLst>
                    <a:path stroke="0" w="174603" h="595229">
                      <a:moveTo>
                        <a:pt x="87301" y="0"/>
                      </a:moveTo>
                      <a:cubicBezTo>
                        <a:pt x="135517" y="0"/>
                        <a:pt x="174603" y="133247"/>
                        <a:pt x="174603" y="297615"/>
                      </a:cubicBezTo>
                      <a:lnTo>
                        <a:pt x="87302" y="297615"/>
                      </a:lnTo>
                      <a:cubicBezTo>
                        <a:pt x="87302" y="198410"/>
                        <a:pt x="87301" y="99205"/>
                        <a:pt x="87301" y="0"/>
                      </a:cubicBezTo>
                      <a:close/>
                    </a:path>
                    <a:path fill="none" w="174603" h="595229">
                      <a:moveTo>
                        <a:pt x="87301" y="0"/>
                      </a:moveTo>
                      <a:cubicBezTo>
                        <a:pt x="135517" y="0"/>
                        <a:pt x="174603" y="133247"/>
                        <a:pt x="174603" y="297615"/>
                      </a:cubicBezTo>
                    </a:path>
                  </a:pathLst>
                </a:custGeom>
                <a:noFill/>
                <a:ln w="9360">
                  <a:solidFill>
                    <a:srgbClr val="000000">
                      <a:alpha val="98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4" name="Straight Connector 5"/>
              <p:cNvSpPr/>
              <p:nvPr/>
            </p:nvSpPr>
            <p:spPr>
              <a:xfrm flipH="1">
                <a:off x="1374840" y="4000320"/>
                <a:ext cx="10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Straight Connector 14"/>
              <p:cNvSpPr/>
              <p:nvPr/>
            </p:nvSpPr>
            <p:spPr>
              <a:xfrm flipH="1">
                <a:off x="1374840" y="4312800"/>
                <a:ext cx="10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Straight Connector 15"/>
              <p:cNvSpPr/>
              <p:nvPr/>
            </p:nvSpPr>
            <p:spPr>
              <a:xfrm>
                <a:off x="2626920" y="4000320"/>
                <a:ext cx="1118160" cy="15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Straight Connector 21"/>
              <p:cNvSpPr/>
              <p:nvPr/>
            </p:nvSpPr>
            <p:spPr>
              <a:xfrm flipV="1">
                <a:off x="2596320" y="4160160"/>
                <a:ext cx="1118160" cy="15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Rectangle 18"/>
              <p:cNvSpPr/>
              <p:nvPr/>
            </p:nvSpPr>
            <p:spPr>
              <a:xfrm>
                <a:off x="3745080" y="3726000"/>
                <a:ext cx="68400" cy="868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spcBef>
                    <a:spcPts val="249"/>
                  </a:spcBef>
                  <a:spcAft>
                    <a:spcPts val="24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Isosceles Triangle 20"/>
            <p:cNvSpPr/>
            <p:nvPr/>
          </p:nvSpPr>
          <p:spPr>
            <a:xfrm flipV="1">
              <a:off x="2424240" y="4983480"/>
              <a:ext cx="220680" cy="27432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spAutoFit/>
            </a:bodyPr>
            <a:p>
              <a:pPr marL="343080" indent="-343080"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22"/>
            <p:cNvSpPr/>
            <p:nvPr/>
          </p:nvSpPr>
          <p:spPr>
            <a:xfrm>
              <a:off x="2334960" y="4541400"/>
              <a:ext cx="403920" cy="1065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26"/>
            <p:cNvSpPr/>
            <p:nvPr/>
          </p:nvSpPr>
          <p:spPr>
            <a:xfrm>
              <a:off x="3573360" y="4693680"/>
              <a:ext cx="403920" cy="1065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Isosceles Triangle 27"/>
            <p:cNvSpPr/>
            <p:nvPr/>
          </p:nvSpPr>
          <p:spPr>
            <a:xfrm flipV="1">
              <a:off x="3672360" y="5128200"/>
              <a:ext cx="220680" cy="27432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spAutoFit/>
            </a:bodyPr>
            <a:p>
              <a:pPr marL="343080" indent="-343080"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25"/>
            <p:cNvGrpSpPr/>
            <p:nvPr/>
          </p:nvGrpSpPr>
          <p:grpSpPr>
            <a:xfrm>
              <a:off x="2474280" y="4693680"/>
              <a:ext cx="121680" cy="228600"/>
              <a:chOff x="2474280" y="4693680"/>
              <a:chExt cx="121680" cy="228600"/>
            </a:xfrm>
          </p:grpSpPr>
          <p:sp>
            <p:nvSpPr>
              <p:cNvPr id="194" name="Straight Connector 24"/>
              <p:cNvSpPr/>
              <p:nvPr/>
            </p:nvSpPr>
            <p:spPr>
              <a:xfrm>
                <a:off x="2474280" y="4693680"/>
                <a:ext cx="1216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Straight Connector 30"/>
              <p:cNvSpPr/>
              <p:nvPr/>
            </p:nvSpPr>
            <p:spPr>
              <a:xfrm>
                <a:off x="2474280" y="4738680"/>
                <a:ext cx="1216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Straight Connector 31"/>
              <p:cNvSpPr/>
              <p:nvPr/>
            </p:nvSpPr>
            <p:spPr>
              <a:xfrm>
                <a:off x="2474280" y="4785120"/>
                <a:ext cx="1216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Straight Connector 32"/>
              <p:cNvSpPr/>
              <p:nvPr/>
            </p:nvSpPr>
            <p:spPr>
              <a:xfrm>
                <a:off x="2474280" y="4830840"/>
                <a:ext cx="1216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Straight Connector 33"/>
              <p:cNvSpPr/>
              <p:nvPr/>
            </p:nvSpPr>
            <p:spPr>
              <a:xfrm>
                <a:off x="2474280" y="4876560"/>
                <a:ext cx="1216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Straight Connector 34"/>
              <p:cNvSpPr/>
              <p:nvPr/>
            </p:nvSpPr>
            <p:spPr>
              <a:xfrm>
                <a:off x="2474280" y="4922280"/>
                <a:ext cx="1216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36"/>
            <p:cNvGrpSpPr/>
            <p:nvPr/>
          </p:nvGrpSpPr>
          <p:grpSpPr>
            <a:xfrm>
              <a:off x="3714480" y="4838760"/>
              <a:ext cx="121680" cy="228600"/>
              <a:chOff x="3714480" y="4838760"/>
              <a:chExt cx="121680" cy="228600"/>
            </a:xfrm>
          </p:grpSpPr>
          <p:sp>
            <p:nvSpPr>
              <p:cNvPr id="201" name="Straight Connector 37"/>
              <p:cNvSpPr/>
              <p:nvPr/>
            </p:nvSpPr>
            <p:spPr>
              <a:xfrm>
                <a:off x="3714480" y="4838760"/>
                <a:ext cx="1216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Straight Connector 38"/>
              <p:cNvSpPr/>
              <p:nvPr/>
            </p:nvSpPr>
            <p:spPr>
              <a:xfrm>
                <a:off x="3714480" y="4883760"/>
                <a:ext cx="1216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Straight Connector 39"/>
              <p:cNvSpPr/>
              <p:nvPr/>
            </p:nvSpPr>
            <p:spPr>
              <a:xfrm>
                <a:off x="3714480" y="4930200"/>
                <a:ext cx="1216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Straight Connector 40"/>
              <p:cNvSpPr/>
              <p:nvPr/>
            </p:nvSpPr>
            <p:spPr>
              <a:xfrm>
                <a:off x="3714480" y="4975920"/>
                <a:ext cx="1216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Straight Connector 41"/>
              <p:cNvSpPr/>
              <p:nvPr/>
            </p:nvSpPr>
            <p:spPr>
              <a:xfrm>
                <a:off x="3714480" y="5021640"/>
                <a:ext cx="1216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Straight Connector 42"/>
              <p:cNvSpPr/>
              <p:nvPr/>
            </p:nvSpPr>
            <p:spPr>
              <a:xfrm>
                <a:off x="3714480" y="5067360"/>
                <a:ext cx="1216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Group 29"/>
            <p:cNvGrpSpPr/>
            <p:nvPr/>
          </p:nvGrpSpPr>
          <p:grpSpPr>
            <a:xfrm>
              <a:off x="4659480" y="5338080"/>
              <a:ext cx="510480" cy="624600"/>
              <a:chOff x="4659480" y="5338080"/>
              <a:chExt cx="510480" cy="624600"/>
            </a:xfrm>
          </p:grpSpPr>
          <p:sp>
            <p:nvSpPr>
              <p:cNvPr id="208" name="Isosceles Triangle 43"/>
              <p:cNvSpPr/>
              <p:nvPr/>
            </p:nvSpPr>
            <p:spPr>
              <a:xfrm flipV="1" rot="16200000">
                <a:off x="4619520" y="5412240"/>
                <a:ext cx="590400" cy="51048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spcBef>
                    <a:spcPts val="249"/>
                  </a:spcBef>
                  <a:spcAft>
                    <a:spcPts val="24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TextBox 28"/>
              <p:cNvSpPr/>
              <p:nvPr/>
            </p:nvSpPr>
            <p:spPr>
              <a:xfrm>
                <a:off x="4659480" y="5338080"/>
                <a:ext cx="365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_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210" name="Elbow Connector 44"/>
            <p:cNvCxnSpPr>
              <a:stCxn id="192" idx="0"/>
              <a:endCxn id="209" idx="1"/>
            </p:cNvCxnSpPr>
            <p:nvPr/>
          </p:nvCxnSpPr>
          <p:spPr>
            <a:xfrm flipH="1" rot="16200000">
              <a:off x="4153320" y="5031720"/>
              <a:ext cx="136080" cy="87696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211" name="Elbow Connector 46"/>
            <p:cNvCxnSpPr>
              <a:stCxn id="189" idx="0"/>
            </p:cNvCxnSpPr>
            <p:nvPr/>
          </p:nvCxnSpPr>
          <p:spPr>
            <a:xfrm flipH="1" rot="16200000">
              <a:off x="3318120" y="4473000"/>
              <a:ext cx="556560" cy="212508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</a:ln>
          </p:spPr>
        </p:cxnSp>
        <p:sp>
          <p:nvSpPr>
            <p:cNvPr id="212" name="TextBox 47"/>
            <p:cNvSpPr/>
            <p:nvPr/>
          </p:nvSpPr>
          <p:spPr>
            <a:xfrm>
              <a:off x="5775480" y="5467320"/>
              <a:ext cx="218412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p/Dn Counter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Straight Connector 49"/>
            <p:cNvSpPr/>
            <p:nvPr/>
          </p:nvSpPr>
          <p:spPr>
            <a:xfrm>
              <a:off x="5169960" y="5667480"/>
              <a:ext cx="60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TextBox 55"/>
          <p:cNvSpPr/>
          <p:nvPr/>
        </p:nvSpPr>
        <p:spPr>
          <a:xfrm>
            <a:off x="743040" y="4465800"/>
            <a:ext cx="130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RR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59"/>
          <p:cNvSpPr/>
          <p:nvPr/>
        </p:nvSpPr>
        <p:spPr>
          <a:xfrm>
            <a:off x="419040" y="5021280"/>
            <a:ext cx="191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FEROMET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ounded Rectangle 56"/>
          <p:cNvSpPr/>
          <p:nvPr/>
        </p:nvSpPr>
        <p:spPr>
          <a:xfrm>
            <a:off x="304920" y="1224000"/>
            <a:ext cx="4572000" cy="2432160"/>
          </a:xfrm>
          <a:prstGeom prst="roundRect">
            <a:avLst>
              <a:gd name="adj" fmla="val 1079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965160"/>
            <a:ext cx="3193920" cy="31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-ray microscope data-acquisition system (2D fly sca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gger when focal spot leaves a pix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 dat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34272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(x,y)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34272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7 counter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s at &lt;400 k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1" descr=""/>
          <p:cNvPicPr/>
          <p:nvPr/>
        </p:nvPicPr>
        <p:blipFill>
          <a:blip r:embed="rId1"/>
          <a:stretch/>
        </p:blipFill>
        <p:spPr>
          <a:xfrm>
            <a:off x="3986280" y="1092240"/>
            <a:ext cx="4903560" cy="438156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1"/>
          <p:cNvSpPr/>
          <p:nvPr/>
        </p:nvSpPr>
        <p:spPr>
          <a:xfrm>
            <a:off x="563400" y="4773600"/>
            <a:ext cx="2233800" cy="1319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3"/>
          <p:cNvSpPr/>
          <p:nvPr/>
        </p:nvSpPr>
        <p:spPr>
          <a:xfrm>
            <a:off x="1657440" y="4773600"/>
            <a:ext cx="0" cy="1319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traight Connector 7"/>
          <p:cNvSpPr/>
          <p:nvPr/>
        </p:nvSpPr>
        <p:spPr>
          <a:xfrm>
            <a:off x="1960560" y="4773600"/>
            <a:ext cx="0" cy="1319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traight Connector 8"/>
          <p:cNvSpPr/>
          <p:nvPr/>
        </p:nvSpPr>
        <p:spPr>
          <a:xfrm>
            <a:off x="1806480" y="4773600"/>
            <a:ext cx="0" cy="1319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traight Connector 9"/>
          <p:cNvSpPr/>
          <p:nvPr/>
        </p:nvSpPr>
        <p:spPr>
          <a:xfrm>
            <a:off x="2117880" y="4773600"/>
            <a:ext cx="0" cy="1319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traight Connector 10"/>
          <p:cNvSpPr/>
          <p:nvPr/>
        </p:nvSpPr>
        <p:spPr>
          <a:xfrm>
            <a:off x="2268360" y="4773600"/>
            <a:ext cx="0" cy="1319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traight Connector 11"/>
          <p:cNvSpPr/>
          <p:nvPr/>
        </p:nvSpPr>
        <p:spPr>
          <a:xfrm>
            <a:off x="2419200" y="4773600"/>
            <a:ext cx="0" cy="1319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12"/>
          <p:cNvSpPr/>
          <p:nvPr/>
        </p:nvSpPr>
        <p:spPr>
          <a:xfrm>
            <a:off x="2571840" y="4773600"/>
            <a:ext cx="0" cy="1319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traight Connector 13"/>
          <p:cNvSpPr/>
          <p:nvPr/>
        </p:nvSpPr>
        <p:spPr>
          <a:xfrm>
            <a:off x="2724120" y="4773600"/>
            <a:ext cx="0" cy="1319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traight Connector 14"/>
          <p:cNvSpPr/>
          <p:nvPr/>
        </p:nvSpPr>
        <p:spPr>
          <a:xfrm>
            <a:off x="1504800" y="4773600"/>
            <a:ext cx="0" cy="1319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traight Connector 15"/>
          <p:cNvSpPr/>
          <p:nvPr/>
        </p:nvSpPr>
        <p:spPr>
          <a:xfrm>
            <a:off x="1352520" y="4773600"/>
            <a:ext cx="0" cy="1319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traight Connector 16"/>
          <p:cNvSpPr/>
          <p:nvPr/>
        </p:nvSpPr>
        <p:spPr>
          <a:xfrm>
            <a:off x="1197000" y="4773600"/>
            <a:ext cx="0" cy="1319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traight Connector 17"/>
          <p:cNvSpPr/>
          <p:nvPr/>
        </p:nvSpPr>
        <p:spPr>
          <a:xfrm>
            <a:off x="1046160" y="4773600"/>
            <a:ext cx="0" cy="1319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traight Connector 18"/>
          <p:cNvSpPr/>
          <p:nvPr/>
        </p:nvSpPr>
        <p:spPr>
          <a:xfrm>
            <a:off x="892080" y="4773600"/>
            <a:ext cx="0" cy="1319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traight Connector 19"/>
          <p:cNvSpPr/>
          <p:nvPr/>
        </p:nvSpPr>
        <p:spPr>
          <a:xfrm>
            <a:off x="741240" y="4773600"/>
            <a:ext cx="0" cy="1319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traight Connector 20"/>
          <p:cNvSpPr/>
          <p:nvPr/>
        </p:nvSpPr>
        <p:spPr>
          <a:xfrm>
            <a:off x="588960" y="4773600"/>
            <a:ext cx="0" cy="1319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traight Connector 5"/>
          <p:cNvSpPr/>
          <p:nvPr/>
        </p:nvSpPr>
        <p:spPr>
          <a:xfrm>
            <a:off x="563400" y="4915080"/>
            <a:ext cx="223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traight Connector 23"/>
          <p:cNvSpPr/>
          <p:nvPr/>
        </p:nvSpPr>
        <p:spPr>
          <a:xfrm>
            <a:off x="563400" y="5067360"/>
            <a:ext cx="223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traight Connector 24"/>
          <p:cNvSpPr/>
          <p:nvPr/>
        </p:nvSpPr>
        <p:spPr>
          <a:xfrm>
            <a:off x="571680" y="5222880"/>
            <a:ext cx="22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traight Connector 25"/>
          <p:cNvSpPr/>
          <p:nvPr/>
        </p:nvSpPr>
        <p:spPr>
          <a:xfrm>
            <a:off x="571680" y="5375160"/>
            <a:ext cx="22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traight Connector 26"/>
          <p:cNvSpPr/>
          <p:nvPr/>
        </p:nvSpPr>
        <p:spPr>
          <a:xfrm>
            <a:off x="571680" y="5529240"/>
            <a:ext cx="22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traight Connector 27"/>
          <p:cNvSpPr/>
          <p:nvPr/>
        </p:nvSpPr>
        <p:spPr>
          <a:xfrm>
            <a:off x="563400" y="5684760"/>
            <a:ext cx="223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traight Connector 28"/>
          <p:cNvSpPr/>
          <p:nvPr/>
        </p:nvSpPr>
        <p:spPr>
          <a:xfrm>
            <a:off x="563400" y="5834160"/>
            <a:ext cx="223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traight Connector 29"/>
          <p:cNvSpPr/>
          <p:nvPr/>
        </p:nvSpPr>
        <p:spPr>
          <a:xfrm>
            <a:off x="563400" y="5986440"/>
            <a:ext cx="223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6"/>
          <p:cNvSpPr/>
          <p:nvPr/>
        </p:nvSpPr>
        <p:spPr>
          <a:xfrm>
            <a:off x="1565280" y="5299200"/>
            <a:ext cx="168120" cy="1634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21"/>
          <p:cNvSpPr/>
          <p:nvPr/>
        </p:nvSpPr>
        <p:spPr>
          <a:xfrm>
            <a:off x="1606680" y="5381640"/>
            <a:ext cx="622080" cy="533520"/>
          </a:xfrm>
          <a:custGeom>
            <a:avLst/>
            <a:gdLst/>
            <a:ahLst/>
            <a:rect l="l" t="t" r="r" b="b"/>
            <a:pathLst>
              <a:path w="622300" h="533400">
                <a:moveTo>
                  <a:pt x="44450" y="0"/>
                </a:moveTo>
                <a:cubicBezTo>
                  <a:pt x="68792" y="17992"/>
                  <a:pt x="92721" y="36555"/>
                  <a:pt x="117475" y="53975"/>
                </a:cubicBezTo>
                <a:cubicBezTo>
                  <a:pt x="123262" y="58048"/>
                  <a:pt x="132690" y="61497"/>
                  <a:pt x="139700" y="63500"/>
                </a:cubicBezTo>
                <a:cubicBezTo>
                  <a:pt x="143896" y="64699"/>
                  <a:pt x="148204" y="65476"/>
                  <a:pt x="152400" y="66675"/>
                </a:cubicBezTo>
                <a:cubicBezTo>
                  <a:pt x="155618" y="67594"/>
                  <a:pt x="158707" y="68931"/>
                  <a:pt x="161925" y="69850"/>
                </a:cubicBezTo>
                <a:cubicBezTo>
                  <a:pt x="166121" y="71049"/>
                  <a:pt x="170429" y="71826"/>
                  <a:pt x="174625" y="73025"/>
                </a:cubicBezTo>
                <a:cubicBezTo>
                  <a:pt x="177843" y="73944"/>
                  <a:pt x="180932" y="75281"/>
                  <a:pt x="184150" y="76200"/>
                </a:cubicBezTo>
                <a:cubicBezTo>
                  <a:pt x="188346" y="77399"/>
                  <a:pt x="192764" y="77843"/>
                  <a:pt x="196850" y="79375"/>
                </a:cubicBezTo>
                <a:cubicBezTo>
                  <a:pt x="201282" y="81037"/>
                  <a:pt x="204984" y="84480"/>
                  <a:pt x="209550" y="85725"/>
                </a:cubicBezTo>
                <a:cubicBezTo>
                  <a:pt x="216770" y="87694"/>
                  <a:pt x="224367" y="87842"/>
                  <a:pt x="231775" y="88900"/>
                </a:cubicBezTo>
                <a:cubicBezTo>
                  <a:pt x="251205" y="95377"/>
                  <a:pt x="233363" y="90121"/>
                  <a:pt x="266700" y="95250"/>
                </a:cubicBezTo>
                <a:cubicBezTo>
                  <a:pt x="272034" y="96071"/>
                  <a:pt x="277266" y="97460"/>
                  <a:pt x="282575" y="98425"/>
                </a:cubicBezTo>
                <a:cubicBezTo>
                  <a:pt x="297855" y="101203"/>
                  <a:pt x="302935" y="101414"/>
                  <a:pt x="317500" y="104775"/>
                </a:cubicBezTo>
                <a:cubicBezTo>
                  <a:pt x="326004" y="106737"/>
                  <a:pt x="334621" y="108365"/>
                  <a:pt x="342900" y="111125"/>
                </a:cubicBezTo>
                <a:cubicBezTo>
                  <a:pt x="349250" y="113242"/>
                  <a:pt x="355456" y="115852"/>
                  <a:pt x="361950" y="117475"/>
                </a:cubicBezTo>
                <a:cubicBezTo>
                  <a:pt x="366183" y="118533"/>
                  <a:pt x="370470" y="119396"/>
                  <a:pt x="374650" y="120650"/>
                </a:cubicBezTo>
                <a:cubicBezTo>
                  <a:pt x="381061" y="122573"/>
                  <a:pt x="387206" y="125377"/>
                  <a:pt x="393700" y="127000"/>
                </a:cubicBezTo>
                <a:cubicBezTo>
                  <a:pt x="400145" y="128611"/>
                  <a:pt x="409548" y="130617"/>
                  <a:pt x="415925" y="133350"/>
                </a:cubicBezTo>
                <a:cubicBezTo>
                  <a:pt x="454889" y="150049"/>
                  <a:pt x="406264" y="130107"/>
                  <a:pt x="438150" y="146050"/>
                </a:cubicBezTo>
                <a:cubicBezTo>
                  <a:pt x="441143" y="147547"/>
                  <a:pt x="444500" y="148167"/>
                  <a:pt x="447675" y="149225"/>
                </a:cubicBezTo>
                <a:cubicBezTo>
                  <a:pt x="456142" y="155575"/>
                  <a:pt x="464269" y="162404"/>
                  <a:pt x="473075" y="168275"/>
                </a:cubicBezTo>
                <a:lnTo>
                  <a:pt x="492125" y="180975"/>
                </a:lnTo>
                <a:cubicBezTo>
                  <a:pt x="495300" y="183092"/>
                  <a:pt x="498952" y="184627"/>
                  <a:pt x="501650" y="187325"/>
                </a:cubicBezTo>
                <a:cubicBezTo>
                  <a:pt x="508000" y="193675"/>
                  <a:pt x="513516" y="200987"/>
                  <a:pt x="520700" y="206375"/>
                </a:cubicBezTo>
                <a:cubicBezTo>
                  <a:pt x="524933" y="209550"/>
                  <a:pt x="529658" y="212158"/>
                  <a:pt x="533400" y="215900"/>
                </a:cubicBezTo>
                <a:cubicBezTo>
                  <a:pt x="536098" y="218598"/>
                  <a:pt x="537052" y="222727"/>
                  <a:pt x="539750" y="225425"/>
                </a:cubicBezTo>
                <a:cubicBezTo>
                  <a:pt x="558736" y="244411"/>
                  <a:pt x="546423" y="225467"/>
                  <a:pt x="561975" y="244475"/>
                </a:cubicBezTo>
                <a:cubicBezTo>
                  <a:pt x="576152" y="261803"/>
                  <a:pt x="581970" y="271293"/>
                  <a:pt x="593725" y="288925"/>
                </a:cubicBezTo>
                <a:cubicBezTo>
                  <a:pt x="595842" y="292100"/>
                  <a:pt x="598868" y="294830"/>
                  <a:pt x="600075" y="298450"/>
                </a:cubicBezTo>
                <a:cubicBezTo>
                  <a:pt x="604457" y="311595"/>
                  <a:pt x="601394" y="305190"/>
                  <a:pt x="609600" y="317500"/>
                </a:cubicBezTo>
                <a:cubicBezTo>
                  <a:pt x="616055" y="349775"/>
                  <a:pt x="609441" y="320120"/>
                  <a:pt x="615950" y="342900"/>
                </a:cubicBezTo>
                <a:cubicBezTo>
                  <a:pt x="618939" y="353362"/>
                  <a:pt x="620118" y="360563"/>
                  <a:pt x="622300" y="371475"/>
                </a:cubicBezTo>
                <a:cubicBezTo>
                  <a:pt x="621242" y="395817"/>
                  <a:pt x="621632" y="420265"/>
                  <a:pt x="619125" y="444500"/>
                </a:cubicBezTo>
                <a:cubicBezTo>
                  <a:pt x="617515" y="460059"/>
                  <a:pt x="608331" y="470216"/>
                  <a:pt x="600075" y="482600"/>
                </a:cubicBezTo>
                <a:cubicBezTo>
                  <a:pt x="595012" y="490195"/>
                  <a:pt x="591978" y="496094"/>
                  <a:pt x="584200" y="501650"/>
                </a:cubicBezTo>
                <a:cubicBezTo>
                  <a:pt x="580349" y="504401"/>
                  <a:pt x="575559" y="505565"/>
                  <a:pt x="571500" y="508000"/>
                </a:cubicBezTo>
                <a:cubicBezTo>
                  <a:pt x="564956" y="511927"/>
                  <a:pt x="559854" y="518849"/>
                  <a:pt x="552450" y="520700"/>
                </a:cubicBezTo>
                <a:cubicBezTo>
                  <a:pt x="548217" y="521758"/>
                  <a:pt x="543836" y="522343"/>
                  <a:pt x="539750" y="523875"/>
                </a:cubicBezTo>
                <a:cubicBezTo>
                  <a:pt x="535318" y="525537"/>
                  <a:pt x="531400" y="528361"/>
                  <a:pt x="527050" y="530225"/>
                </a:cubicBezTo>
                <a:cubicBezTo>
                  <a:pt x="523974" y="531543"/>
                  <a:pt x="520700" y="532342"/>
                  <a:pt x="517525" y="533400"/>
                </a:cubicBezTo>
                <a:cubicBezTo>
                  <a:pt x="481542" y="532342"/>
                  <a:pt x="445473" y="532917"/>
                  <a:pt x="409575" y="530225"/>
                </a:cubicBezTo>
                <a:cubicBezTo>
                  <a:pt x="402900" y="529724"/>
                  <a:pt x="390525" y="523875"/>
                  <a:pt x="390525" y="523875"/>
                </a:cubicBezTo>
                <a:cubicBezTo>
                  <a:pt x="389187" y="522872"/>
                  <a:pt x="364154" y="503363"/>
                  <a:pt x="355600" y="498475"/>
                </a:cubicBezTo>
                <a:cubicBezTo>
                  <a:pt x="351491" y="496127"/>
                  <a:pt x="346959" y="494560"/>
                  <a:pt x="342900" y="492125"/>
                </a:cubicBezTo>
                <a:cubicBezTo>
                  <a:pt x="336356" y="488198"/>
                  <a:pt x="330200" y="483658"/>
                  <a:pt x="323850" y="479425"/>
                </a:cubicBezTo>
                <a:lnTo>
                  <a:pt x="304800" y="466725"/>
                </a:lnTo>
                <a:cubicBezTo>
                  <a:pt x="301625" y="464608"/>
                  <a:pt x="298328" y="462665"/>
                  <a:pt x="295275" y="460375"/>
                </a:cubicBezTo>
                <a:cubicBezTo>
                  <a:pt x="291042" y="457200"/>
                  <a:pt x="286881" y="453926"/>
                  <a:pt x="282575" y="450850"/>
                </a:cubicBezTo>
                <a:cubicBezTo>
                  <a:pt x="279470" y="448632"/>
                  <a:pt x="276363" y="446393"/>
                  <a:pt x="273050" y="444500"/>
                </a:cubicBezTo>
                <a:cubicBezTo>
                  <a:pt x="268941" y="442152"/>
                  <a:pt x="264201" y="440901"/>
                  <a:pt x="260350" y="438150"/>
                </a:cubicBezTo>
                <a:cubicBezTo>
                  <a:pt x="256696" y="435540"/>
                  <a:pt x="254613" y="431036"/>
                  <a:pt x="250825" y="428625"/>
                </a:cubicBezTo>
                <a:cubicBezTo>
                  <a:pt x="242839" y="423543"/>
                  <a:pt x="232118" y="422618"/>
                  <a:pt x="225425" y="415925"/>
                </a:cubicBezTo>
                <a:cubicBezTo>
                  <a:pt x="212814" y="403314"/>
                  <a:pt x="220256" y="407489"/>
                  <a:pt x="203200" y="403225"/>
                </a:cubicBezTo>
                <a:cubicBezTo>
                  <a:pt x="198967" y="400050"/>
                  <a:pt x="195233" y="396067"/>
                  <a:pt x="190500" y="393700"/>
                </a:cubicBezTo>
                <a:cubicBezTo>
                  <a:pt x="184513" y="390707"/>
                  <a:pt x="177019" y="391063"/>
                  <a:pt x="171450" y="387350"/>
                </a:cubicBezTo>
                <a:cubicBezTo>
                  <a:pt x="168275" y="385233"/>
                  <a:pt x="165498" y="382340"/>
                  <a:pt x="161925" y="381000"/>
                </a:cubicBezTo>
                <a:cubicBezTo>
                  <a:pt x="156872" y="379105"/>
                  <a:pt x="151256" y="379245"/>
                  <a:pt x="146050" y="377825"/>
                </a:cubicBezTo>
                <a:cubicBezTo>
                  <a:pt x="136364" y="375183"/>
                  <a:pt x="127000" y="371475"/>
                  <a:pt x="117475" y="368300"/>
                </a:cubicBezTo>
                <a:cubicBezTo>
                  <a:pt x="114300" y="367242"/>
                  <a:pt x="111283" y="365428"/>
                  <a:pt x="107950" y="365125"/>
                </a:cubicBezTo>
                <a:cubicBezTo>
                  <a:pt x="48783" y="359746"/>
                  <a:pt x="84715" y="361950"/>
                  <a:pt x="0" y="36195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2"/>
          <p:cNvSpPr/>
          <p:nvPr/>
        </p:nvSpPr>
        <p:spPr>
          <a:xfrm>
            <a:off x="1787400" y="5438880"/>
            <a:ext cx="46080" cy="44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42"/>
          <p:cNvSpPr/>
          <p:nvPr/>
        </p:nvSpPr>
        <p:spPr>
          <a:xfrm>
            <a:off x="1940040" y="5473800"/>
            <a:ext cx="46080" cy="44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43"/>
          <p:cNvSpPr/>
          <p:nvPr/>
        </p:nvSpPr>
        <p:spPr>
          <a:xfrm>
            <a:off x="2031840" y="5511960"/>
            <a:ext cx="46080" cy="44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44"/>
          <p:cNvSpPr/>
          <p:nvPr/>
        </p:nvSpPr>
        <p:spPr>
          <a:xfrm>
            <a:off x="2095560" y="5565600"/>
            <a:ext cx="46080" cy="44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45"/>
          <p:cNvSpPr/>
          <p:nvPr/>
        </p:nvSpPr>
        <p:spPr>
          <a:xfrm>
            <a:off x="2185920" y="5661000"/>
            <a:ext cx="46080" cy="46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46"/>
          <p:cNvSpPr/>
          <p:nvPr/>
        </p:nvSpPr>
        <p:spPr>
          <a:xfrm>
            <a:off x="2206800" y="5811840"/>
            <a:ext cx="44280" cy="46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47"/>
          <p:cNvSpPr/>
          <p:nvPr/>
        </p:nvSpPr>
        <p:spPr>
          <a:xfrm>
            <a:off x="2093760" y="5891040"/>
            <a:ext cx="46080" cy="46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48"/>
          <p:cNvSpPr/>
          <p:nvPr/>
        </p:nvSpPr>
        <p:spPr>
          <a:xfrm>
            <a:off x="1938240" y="5862600"/>
            <a:ext cx="46080" cy="46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49"/>
          <p:cNvSpPr/>
          <p:nvPr/>
        </p:nvSpPr>
        <p:spPr>
          <a:xfrm>
            <a:off x="1866960" y="5811840"/>
            <a:ext cx="46080" cy="46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50"/>
          <p:cNvSpPr/>
          <p:nvPr/>
        </p:nvSpPr>
        <p:spPr>
          <a:xfrm>
            <a:off x="1789200" y="5764320"/>
            <a:ext cx="46080" cy="44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51"/>
          <p:cNvSpPr/>
          <p:nvPr/>
        </p:nvSpPr>
        <p:spPr>
          <a:xfrm>
            <a:off x="1633680" y="5718240"/>
            <a:ext cx="45720" cy="46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52"/>
          <p:cNvSpPr/>
          <p:nvPr/>
        </p:nvSpPr>
        <p:spPr>
          <a:xfrm>
            <a:off x="1641600" y="5367240"/>
            <a:ext cx="46080" cy="46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 4"/>
          <p:cNvGrpSpPr/>
          <p:nvPr/>
        </p:nvGrpSpPr>
        <p:grpSpPr>
          <a:xfrm>
            <a:off x="3149640" y="4570560"/>
            <a:ext cx="482400" cy="512640"/>
            <a:chOff x="3149640" y="4570560"/>
            <a:chExt cx="482400" cy="512640"/>
          </a:xfrm>
        </p:grpSpPr>
        <p:sp>
          <p:nvSpPr>
            <p:cNvPr id="259" name="Rectangle 3"/>
            <p:cNvSpPr/>
            <p:nvPr/>
          </p:nvSpPr>
          <p:spPr>
            <a:xfrm>
              <a:off x="3149640" y="4570560"/>
              <a:ext cx="482400" cy="648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spAutoFit/>
            </a:bodyPr>
            <a:p>
              <a:pPr marL="343080" indent="-343080"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54"/>
            <p:cNvSpPr/>
            <p:nvPr/>
          </p:nvSpPr>
          <p:spPr>
            <a:xfrm>
              <a:off x="3149640" y="4635360"/>
              <a:ext cx="482400" cy="64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spAutoFit/>
            </a:bodyPr>
            <a:p>
              <a:pPr marL="343080" indent="-343080"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55"/>
            <p:cNvSpPr/>
            <p:nvPr/>
          </p:nvSpPr>
          <p:spPr>
            <a:xfrm>
              <a:off x="3149640" y="4700520"/>
              <a:ext cx="482400" cy="64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spAutoFit/>
            </a:bodyPr>
            <a:p>
              <a:pPr marL="343080" indent="-343080"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56"/>
            <p:cNvSpPr/>
            <p:nvPr/>
          </p:nvSpPr>
          <p:spPr>
            <a:xfrm>
              <a:off x="3149640" y="4762440"/>
              <a:ext cx="482400" cy="64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spAutoFit/>
            </a:bodyPr>
            <a:p>
              <a:pPr marL="343080" indent="-343080"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57"/>
            <p:cNvSpPr/>
            <p:nvPr/>
          </p:nvSpPr>
          <p:spPr>
            <a:xfrm>
              <a:off x="3149640" y="4827600"/>
              <a:ext cx="482400" cy="64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spAutoFit/>
            </a:bodyPr>
            <a:p>
              <a:pPr marL="343080" indent="-343080"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58"/>
            <p:cNvSpPr/>
            <p:nvPr/>
          </p:nvSpPr>
          <p:spPr>
            <a:xfrm>
              <a:off x="3149640" y="4891320"/>
              <a:ext cx="482400" cy="64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spAutoFit/>
            </a:bodyPr>
            <a:p>
              <a:pPr marL="343080" indent="-343080"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59"/>
            <p:cNvSpPr/>
            <p:nvPr/>
          </p:nvSpPr>
          <p:spPr>
            <a:xfrm>
              <a:off x="3149640" y="4953240"/>
              <a:ext cx="482400" cy="64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spAutoFit/>
            </a:bodyPr>
            <a:p>
              <a:pPr marL="343080" indent="-343080"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60"/>
            <p:cNvSpPr/>
            <p:nvPr/>
          </p:nvSpPr>
          <p:spPr>
            <a:xfrm>
              <a:off x="3149640" y="5018400"/>
              <a:ext cx="482400" cy="64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spAutoFit/>
            </a:bodyPr>
            <a:p>
              <a:pPr marL="343080" indent="-343080"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Group 62"/>
          <p:cNvGrpSpPr/>
          <p:nvPr/>
        </p:nvGrpSpPr>
        <p:grpSpPr>
          <a:xfrm>
            <a:off x="3149640" y="5073480"/>
            <a:ext cx="482400" cy="513000"/>
            <a:chOff x="3149640" y="5073480"/>
            <a:chExt cx="482400" cy="513000"/>
          </a:xfrm>
        </p:grpSpPr>
        <p:sp>
          <p:nvSpPr>
            <p:cNvPr id="268" name="Rectangle 63"/>
            <p:cNvSpPr/>
            <p:nvPr/>
          </p:nvSpPr>
          <p:spPr>
            <a:xfrm>
              <a:off x="3149640" y="5073480"/>
              <a:ext cx="482400" cy="651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spAutoFit/>
            </a:bodyPr>
            <a:p>
              <a:pPr marL="343080" indent="-343080"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64"/>
            <p:cNvSpPr/>
            <p:nvPr/>
          </p:nvSpPr>
          <p:spPr>
            <a:xfrm>
              <a:off x="3149640" y="5138640"/>
              <a:ext cx="482400" cy="65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spAutoFit/>
            </a:bodyPr>
            <a:p>
              <a:pPr marL="343080" indent="-343080"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65"/>
            <p:cNvSpPr/>
            <p:nvPr/>
          </p:nvSpPr>
          <p:spPr>
            <a:xfrm>
              <a:off x="3149640" y="5203800"/>
              <a:ext cx="482400" cy="65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spAutoFit/>
            </a:bodyPr>
            <a:p>
              <a:pPr marL="343080" indent="-343080"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66"/>
            <p:cNvSpPr/>
            <p:nvPr/>
          </p:nvSpPr>
          <p:spPr>
            <a:xfrm>
              <a:off x="3149640" y="5265720"/>
              <a:ext cx="482400" cy="65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spAutoFit/>
            </a:bodyPr>
            <a:p>
              <a:pPr marL="343080" indent="-343080"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67"/>
            <p:cNvSpPr/>
            <p:nvPr/>
          </p:nvSpPr>
          <p:spPr>
            <a:xfrm>
              <a:off x="3149640" y="5330880"/>
              <a:ext cx="482400" cy="65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spAutoFit/>
            </a:bodyPr>
            <a:p>
              <a:pPr marL="343080" indent="-343080"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68"/>
            <p:cNvSpPr/>
            <p:nvPr/>
          </p:nvSpPr>
          <p:spPr>
            <a:xfrm>
              <a:off x="3149640" y="5394240"/>
              <a:ext cx="482400" cy="65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spAutoFit/>
            </a:bodyPr>
            <a:p>
              <a:pPr marL="343080" indent="-343080"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69"/>
            <p:cNvSpPr/>
            <p:nvPr/>
          </p:nvSpPr>
          <p:spPr>
            <a:xfrm>
              <a:off x="3149640" y="5456160"/>
              <a:ext cx="482400" cy="65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spAutoFit/>
            </a:bodyPr>
            <a:p>
              <a:pPr marL="343080" indent="-343080"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70"/>
            <p:cNvSpPr/>
            <p:nvPr/>
          </p:nvSpPr>
          <p:spPr>
            <a:xfrm>
              <a:off x="3149640" y="5521320"/>
              <a:ext cx="482400" cy="65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spAutoFit/>
            </a:bodyPr>
            <a:p>
              <a:pPr marL="343080" indent="-343080"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71"/>
          <p:cNvGrpSpPr/>
          <p:nvPr/>
        </p:nvGrpSpPr>
        <p:grpSpPr>
          <a:xfrm>
            <a:off x="3149640" y="5586480"/>
            <a:ext cx="482400" cy="512640"/>
            <a:chOff x="3149640" y="5586480"/>
            <a:chExt cx="482400" cy="512640"/>
          </a:xfrm>
        </p:grpSpPr>
        <p:sp>
          <p:nvSpPr>
            <p:cNvPr id="277" name="Rectangle 72"/>
            <p:cNvSpPr/>
            <p:nvPr/>
          </p:nvSpPr>
          <p:spPr>
            <a:xfrm>
              <a:off x="3149640" y="5586480"/>
              <a:ext cx="482400" cy="648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spAutoFit/>
            </a:bodyPr>
            <a:p>
              <a:pPr marL="343080" indent="-343080"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73"/>
            <p:cNvSpPr/>
            <p:nvPr/>
          </p:nvSpPr>
          <p:spPr>
            <a:xfrm>
              <a:off x="3149640" y="5651280"/>
              <a:ext cx="482400" cy="64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spAutoFit/>
            </a:bodyPr>
            <a:p>
              <a:pPr marL="343080" indent="-343080"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74"/>
            <p:cNvSpPr/>
            <p:nvPr/>
          </p:nvSpPr>
          <p:spPr>
            <a:xfrm>
              <a:off x="3149640" y="5716440"/>
              <a:ext cx="482400" cy="64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spAutoFit/>
            </a:bodyPr>
            <a:p>
              <a:pPr marL="343080" indent="-343080"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75"/>
            <p:cNvSpPr/>
            <p:nvPr/>
          </p:nvSpPr>
          <p:spPr>
            <a:xfrm>
              <a:off x="3149640" y="5778360"/>
              <a:ext cx="482400" cy="64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spAutoFit/>
            </a:bodyPr>
            <a:p>
              <a:pPr marL="343080" indent="-343080"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76"/>
            <p:cNvSpPr/>
            <p:nvPr/>
          </p:nvSpPr>
          <p:spPr>
            <a:xfrm>
              <a:off x="3149640" y="5843520"/>
              <a:ext cx="482400" cy="64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spAutoFit/>
            </a:bodyPr>
            <a:p>
              <a:pPr marL="343080" indent="-343080"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77"/>
            <p:cNvSpPr/>
            <p:nvPr/>
          </p:nvSpPr>
          <p:spPr>
            <a:xfrm>
              <a:off x="3149640" y="5907240"/>
              <a:ext cx="482400" cy="64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spAutoFit/>
            </a:bodyPr>
            <a:p>
              <a:pPr marL="343080" indent="-343080"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78"/>
            <p:cNvSpPr/>
            <p:nvPr/>
          </p:nvSpPr>
          <p:spPr>
            <a:xfrm>
              <a:off x="3149640" y="5969160"/>
              <a:ext cx="482400" cy="64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spAutoFit/>
            </a:bodyPr>
            <a:p>
              <a:pPr marL="343080" indent="-343080"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79"/>
            <p:cNvSpPr/>
            <p:nvPr/>
          </p:nvSpPr>
          <p:spPr>
            <a:xfrm>
              <a:off x="3149640" y="6034320"/>
              <a:ext cx="482400" cy="64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spAutoFit/>
            </a:bodyPr>
            <a:p>
              <a:pPr marL="343080" indent="-343080"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Straight Connector 6"/>
          <p:cNvSpPr/>
          <p:nvPr/>
        </p:nvSpPr>
        <p:spPr>
          <a:xfrm flipV="1">
            <a:off x="1647720" y="4603320"/>
            <a:ext cx="1501920" cy="80172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traight Connector 8"/>
          <p:cNvSpPr/>
          <p:nvPr/>
        </p:nvSpPr>
        <p:spPr>
          <a:xfrm flipV="1">
            <a:off x="1827360" y="5105520"/>
            <a:ext cx="1322280" cy="37152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traight Connector 10"/>
          <p:cNvSpPr/>
          <p:nvPr/>
        </p:nvSpPr>
        <p:spPr>
          <a:xfrm flipH="1" flipV="1">
            <a:off x="1945800" y="5479920"/>
            <a:ext cx="1203480" cy="13824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86"/>
          <p:cNvGrpSpPr/>
          <p:nvPr/>
        </p:nvGrpSpPr>
        <p:grpSpPr>
          <a:xfrm>
            <a:off x="2857680" y="3070080"/>
            <a:ext cx="482400" cy="513000"/>
            <a:chOff x="2857680" y="3070080"/>
            <a:chExt cx="482400" cy="513000"/>
          </a:xfrm>
        </p:grpSpPr>
        <p:sp>
          <p:nvSpPr>
            <p:cNvPr id="289" name="Rectangle 87"/>
            <p:cNvSpPr/>
            <p:nvPr/>
          </p:nvSpPr>
          <p:spPr>
            <a:xfrm>
              <a:off x="2857680" y="3070080"/>
              <a:ext cx="482400" cy="651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spAutoFit/>
            </a:bodyPr>
            <a:p>
              <a:pPr marL="343080" indent="-343080"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88"/>
            <p:cNvSpPr/>
            <p:nvPr/>
          </p:nvSpPr>
          <p:spPr>
            <a:xfrm>
              <a:off x="2857680" y="3135240"/>
              <a:ext cx="482400" cy="65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spAutoFit/>
            </a:bodyPr>
            <a:p>
              <a:pPr marL="343080" indent="-343080"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89"/>
            <p:cNvSpPr/>
            <p:nvPr/>
          </p:nvSpPr>
          <p:spPr>
            <a:xfrm>
              <a:off x="2857680" y="3200400"/>
              <a:ext cx="482400" cy="65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spAutoFit/>
            </a:bodyPr>
            <a:p>
              <a:pPr marL="343080" indent="-343080"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90"/>
            <p:cNvSpPr/>
            <p:nvPr/>
          </p:nvSpPr>
          <p:spPr>
            <a:xfrm>
              <a:off x="2857680" y="3262320"/>
              <a:ext cx="482400" cy="65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spAutoFit/>
            </a:bodyPr>
            <a:p>
              <a:pPr marL="343080" indent="-343080"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91"/>
            <p:cNvSpPr/>
            <p:nvPr/>
          </p:nvSpPr>
          <p:spPr>
            <a:xfrm>
              <a:off x="2857680" y="3327480"/>
              <a:ext cx="482400" cy="65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spAutoFit/>
            </a:bodyPr>
            <a:p>
              <a:pPr marL="343080" indent="-343080"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92"/>
            <p:cNvSpPr/>
            <p:nvPr/>
          </p:nvSpPr>
          <p:spPr>
            <a:xfrm>
              <a:off x="2857680" y="3390840"/>
              <a:ext cx="482400" cy="65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spAutoFit/>
            </a:bodyPr>
            <a:p>
              <a:pPr marL="343080" indent="-343080"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93"/>
            <p:cNvSpPr/>
            <p:nvPr/>
          </p:nvSpPr>
          <p:spPr>
            <a:xfrm>
              <a:off x="2857680" y="3452760"/>
              <a:ext cx="482400" cy="65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spAutoFit/>
            </a:bodyPr>
            <a:p>
              <a:pPr marL="343080" indent="-343080"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94"/>
            <p:cNvSpPr/>
            <p:nvPr/>
          </p:nvSpPr>
          <p:spPr>
            <a:xfrm>
              <a:off x="2857680" y="3517920"/>
              <a:ext cx="482400" cy="65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spAutoFit/>
            </a:bodyPr>
            <a:p>
              <a:pPr marL="343080" indent="-343080"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TextBox 95"/>
          <p:cNvSpPr/>
          <p:nvPr/>
        </p:nvSpPr>
        <p:spPr>
          <a:xfrm>
            <a:off x="455760" y="4481640"/>
            <a:ext cx="246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CAL SPOT ON SAMP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96"/>
          <p:cNvSpPr/>
          <p:nvPr/>
        </p:nvSpPr>
        <p:spPr>
          <a:xfrm>
            <a:off x="3038400" y="4275000"/>
            <a:ext cx="67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ounded Rectangle 12"/>
          <p:cNvSpPr/>
          <p:nvPr/>
        </p:nvSpPr>
        <p:spPr>
          <a:xfrm>
            <a:off x="200160" y="965160"/>
            <a:ext cx="3431880" cy="3170160"/>
          </a:xfrm>
          <a:prstGeom prst="roundRect">
            <a:avLst>
              <a:gd name="adj" fmla="val 1005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560" y="1224000"/>
            <a:ext cx="5924520" cy="10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ixelTrigger Demo: response to impul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xelTriggerSmall.mp4" descr=""/>
          <p:cNvPicPr/>
          <p:nvPr/>
        </p:nvPicPr>
        <p:blipFill>
          <a:blip r:embed="rId1"/>
          <a:stretch/>
        </p:blipFill>
        <p:spPr>
          <a:xfrm>
            <a:off x="457200" y="1797120"/>
            <a:ext cx="7051680" cy="39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02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302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3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4920" y="1223640"/>
            <a:ext cx="7850160" cy="39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ixelTrigger Demo: periodically driven x/y mo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xelTriggerWF.mp4" descr=""/>
          <p:cNvPicPr/>
          <p:nvPr/>
        </p:nvPicPr>
        <p:blipFill>
          <a:blip r:embed="rId1"/>
          <a:stretch/>
        </p:blipFill>
        <p:spPr>
          <a:xfrm>
            <a:off x="457200" y="1681200"/>
            <a:ext cx="8229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305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305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3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4920" y="1224000"/>
            <a:ext cx="3535200" cy="32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 resolved data acquisition (3D fly sca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gger on pixel OR time bounda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 dat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34272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(x,y)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34272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99ff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0099ff"/>
                </a:solidFill>
                <a:latin typeface="Arial"/>
              </a:rPr>
              <a:t>T since sync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34272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6 counter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T &gt; 2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Group 22"/>
          <p:cNvGrpSpPr/>
          <p:nvPr/>
        </p:nvGrpSpPr>
        <p:grpSpPr>
          <a:xfrm>
            <a:off x="563400" y="4773600"/>
            <a:ext cx="2241720" cy="1319400"/>
            <a:chOff x="563400" y="4773600"/>
            <a:chExt cx="2241720" cy="1319400"/>
          </a:xfrm>
        </p:grpSpPr>
        <p:sp>
          <p:nvSpPr>
            <p:cNvPr id="309" name="Rectangle 1"/>
            <p:cNvSpPr/>
            <p:nvPr/>
          </p:nvSpPr>
          <p:spPr>
            <a:xfrm>
              <a:off x="563400" y="4773600"/>
              <a:ext cx="2234520" cy="1319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Straight Connector 3"/>
            <p:cNvSpPr/>
            <p:nvPr/>
          </p:nvSpPr>
          <p:spPr>
            <a:xfrm>
              <a:off x="1656720" y="4773600"/>
              <a:ext cx="0" cy="131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Straight Connector 7"/>
            <p:cNvSpPr/>
            <p:nvPr/>
          </p:nvSpPr>
          <p:spPr>
            <a:xfrm>
              <a:off x="1961280" y="4773600"/>
              <a:ext cx="0" cy="131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Straight Connector 8"/>
            <p:cNvSpPr/>
            <p:nvPr/>
          </p:nvSpPr>
          <p:spPr>
            <a:xfrm>
              <a:off x="1806840" y="4773600"/>
              <a:ext cx="0" cy="131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Straight Connector 9"/>
            <p:cNvSpPr/>
            <p:nvPr/>
          </p:nvSpPr>
          <p:spPr>
            <a:xfrm>
              <a:off x="2117520" y="4773600"/>
              <a:ext cx="0" cy="131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Straight Connector 10"/>
            <p:cNvSpPr/>
            <p:nvPr/>
          </p:nvSpPr>
          <p:spPr>
            <a:xfrm>
              <a:off x="2269080" y="4773600"/>
              <a:ext cx="0" cy="131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Straight Connector 11"/>
            <p:cNvSpPr/>
            <p:nvPr/>
          </p:nvSpPr>
          <p:spPr>
            <a:xfrm>
              <a:off x="2419200" y="4773600"/>
              <a:ext cx="0" cy="131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Straight Connector 12"/>
            <p:cNvSpPr/>
            <p:nvPr/>
          </p:nvSpPr>
          <p:spPr>
            <a:xfrm>
              <a:off x="2571840" y="4773600"/>
              <a:ext cx="0" cy="131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Straight Connector 13"/>
            <p:cNvSpPr/>
            <p:nvPr/>
          </p:nvSpPr>
          <p:spPr>
            <a:xfrm>
              <a:off x="2724120" y="4773600"/>
              <a:ext cx="0" cy="131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Straight Connector 14"/>
            <p:cNvSpPr/>
            <p:nvPr/>
          </p:nvSpPr>
          <p:spPr>
            <a:xfrm>
              <a:off x="1504080" y="4773600"/>
              <a:ext cx="0" cy="131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Straight Connector 15"/>
            <p:cNvSpPr/>
            <p:nvPr/>
          </p:nvSpPr>
          <p:spPr>
            <a:xfrm>
              <a:off x="1351800" y="4773600"/>
              <a:ext cx="0" cy="131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Straight Connector 16"/>
            <p:cNvSpPr/>
            <p:nvPr/>
          </p:nvSpPr>
          <p:spPr>
            <a:xfrm>
              <a:off x="1196640" y="4773600"/>
              <a:ext cx="0" cy="131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Straight Connector 17"/>
            <p:cNvSpPr/>
            <p:nvPr/>
          </p:nvSpPr>
          <p:spPr>
            <a:xfrm>
              <a:off x="1046520" y="4773600"/>
              <a:ext cx="0" cy="131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Straight Connector 18"/>
            <p:cNvSpPr/>
            <p:nvPr/>
          </p:nvSpPr>
          <p:spPr>
            <a:xfrm>
              <a:off x="891720" y="4773600"/>
              <a:ext cx="0" cy="131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Straight Connector 19"/>
            <p:cNvSpPr/>
            <p:nvPr/>
          </p:nvSpPr>
          <p:spPr>
            <a:xfrm>
              <a:off x="741600" y="4773600"/>
              <a:ext cx="0" cy="131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Straight Connector 20"/>
            <p:cNvSpPr/>
            <p:nvPr/>
          </p:nvSpPr>
          <p:spPr>
            <a:xfrm>
              <a:off x="588960" y="4773600"/>
              <a:ext cx="0" cy="131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Straight Connector 5"/>
            <p:cNvSpPr/>
            <p:nvPr/>
          </p:nvSpPr>
          <p:spPr>
            <a:xfrm>
              <a:off x="563400" y="4914720"/>
              <a:ext cx="223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Straight Connector 23"/>
            <p:cNvSpPr/>
            <p:nvPr/>
          </p:nvSpPr>
          <p:spPr>
            <a:xfrm>
              <a:off x="563400" y="5067360"/>
              <a:ext cx="223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Straight Connector 24"/>
            <p:cNvSpPr/>
            <p:nvPr/>
          </p:nvSpPr>
          <p:spPr>
            <a:xfrm>
              <a:off x="570600" y="5222160"/>
              <a:ext cx="223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Straight Connector 25"/>
            <p:cNvSpPr/>
            <p:nvPr/>
          </p:nvSpPr>
          <p:spPr>
            <a:xfrm>
              <a:off x="570600" y="5374800"/>
              <a:ext cx="223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Straight Connector 26"/>
            <p:cNvSpPr/>
            <p:nvPr/>
          </p:nvSpPr>
          <p:spPr>
            <a:xfrm>
              <a:off x="570600" y="5529600"/>
              <a:ext cx="223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Straight Connector 27"/>
            <p:cNvSpPr/>
            <p:nvPr/>
          </p:nvSpPr>
          <p:spPr>
            <a:xfrm>
              <a:off x="563400" y="5684760"/>
              <a:ext cx="223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Straight Connector 28"/>
            <p:cNvSpPr/>
            <p:nvPr/>
          </p:nvSpPr>
          <p:spPr>
            <a:xfrm>
              <a:off x="563400" y="5834880"/>
              <a:ext cx="223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Straight Connector 29"/>
            <p:cNvSpPr/>
            <p:nvPr/>
          </p:nvSpPr>
          <p:spPr>
            <a:xfrm>
              <a:off x="563400" y="5987520"/>
              <a:ext cx="223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6"/>
            <p:cNvSpPr/>
            <p:nvPr/>
          </p:nvSpPr>
          <p:spPr>
            <a:xfrm>
              <a:off x="1564920" y="5298480"/>
              <a:ext cx="91440" cy="91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spAutoFit/>
            </a:bodyPr>
            <a:p>
              <a:pPr marL="343080" indent="-343080"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21"/>
            <p:cNvSpPr/>
            <p:nvPr/>
          </p:nvSpPr>
          <p:spPr>
            <a:xfrm>
              <a:off x="1606320" y="5381280"/>
              <a:ext cx="622440" cy="533880"/>
            </a:xfrm>
            <a:custGeom>
              <a:avLst/>
              <a:gdLst/>
              <a:ahLst/>
              <a:rect l="l" t="t" r="r" b="b"/>
              <a:pathLst>
                <a:path w="622300" h="533400">
                  <a:moveTo>
                    <a:pt x="44450" y="0"/>
                  </a:moveTo>
                  <a:cubicBezTo>
                    <a:pt x="68792" y="17992"/>
                    <a:pt x="92721" y="36555"/>
                    <a:pt x="117475" y="53975"/>
                  </a:cubicBezTo>
                  <a:cubicBezTo>
                    <a:pt x="123262" y="58048"/>
                    <a:pt x="132690" y="61497"/>
                    <a:pt x="139700" y="63500"/>
                  </a:cubicBezTo>
                  <a:cubicBezTo>
                    <a:pt x="143896" y="64699"/>
                    <a:pt x="148204" y="65476"/>
                    <a:pt x="152400" y="66675"/>
                  </a:cubicBezTo>
                  <a:cubicBezTo>
                    <a:pt x="155618" y="67594"/>
                    <a:pt x="158707" y="68931"/>
                    <a:pt x="161925" y="69850"/>
                  </a:cubicBezTo>
                  <a:cubicBezTo>
                    <a:pt x="166121" y="71049"/>
                    <a:pt x="170429" y="71826"/>
                    <a:pt x="174625" y="73025"/>
                  </a:cubicBezTo>
                  <a:cubicBezTo>
                    <a:pt x="177843" y="73944"/>
                    <a:pt x="180932" y="75281"/>
                    <a:pt x="184150" y="76200"/>
                  </a:cubicBezTo>
                  <a:cubicBezTo>
                    <a:pt x="188346" y="77399"/>
                    <a:pt x="192764" y="77843"/>
                    <a:pt x="196850" y="79375"/>
                  </a:cubicBezTo>
                  <a:cubicBezTo>
                    <a:pt x="201282" y="81037"/>
                    <a:pt x="204984" y="84480"/>
                    <a:pt x="209550" y="85725"/>
                  </a:cubicBezTo>
                  <a:cubicBezTo>
                    <a:pt x="216770" y="87694"/>
                    <a:pt x="224367" y="87842"/>
                    <a:pt x="231775" y="88900"/>
                  </a:cubicBezTo>
                  <a:cubicBezTo>
                    <a:pt x="251205" y="95377"/>
                    <a:pt x="233363" y="90121"/>
                    <a:pt x="266700" y="95250"/>
                  </a:cubicBezTo>
                  <a:cubicBezTo>
                    <a:pt x="272034" y="96071"/>
                    <a:pt x="277266" y="97460"/>
                    <a:pt x="282575" y="98425"/>
                  </a:cubicBezTo>
                  <a:cubicBezTo>
                    <a:pt x="297855" y="101203"/>
                    <a:pt x="302935" y="101414"/>
                    <a:pt x="317500" y="104775"/>
                  </a:cubicBezTo>
                  <a:cubicBezTo>
                    <a:pt x="326004" y="106737"/>
                    <a:pt x="334621" y="108365"/>
                    <a:pt x="342900" y="111125"/>
                  </a:cubicBezTo>
                  <a:cubicBezTo>
                    <a:pt x="349250" y="113242"/>
                    <a:pt x="355456" y="115852"/>
                    <a:pt x="361950" y="117475"/>
                  </a:cubicBezTo>
                  <a:cubicBezTo>
                    <a:pt x="366183" y="118533"/>
                    <a:pt x="370470" y="119396"/>
                    <a:pt x="374650" y="120650"/>
                  </a:cubicBezTo>
                  <a:cubicBezTo>
                    <a:pt x="381061" y="122573"/>
                    <a:pt x="387206" y="125377"/>
                    <a:pt x="393700" y="127000"/>
                  </a:cubicBezTo>
                  <a:cubicBezTo>
                    <a:pt x="400145" y="128611"/>
                    <a:pt x="409548" y="130617"/>
                    <a:pt x="415925" y="133350"/>
                  </a:cubicBezTo>
                  <a:cubicBezTo>
                    <a:pt x="454889" y="150049"/>
                    <a:pt x="406264" y="130107"/>
                    <a:pt x="438150" y="146050"/>
                  </a:cubicBezTo>
                  <a:cubicBezTo>
                    <a:pt x="441143" y="147547"/>
                    <a:pt x="444500" y="148167"/>
                    <a:pt x="447675" y="149225"/>
                  </a:cubicBezTo>
                  <a:cubicBezTo>
                    <a:pt x="456142" y="155575"/>
                    <a:pt x="464269" y="162404"/>
                    <a:pt x="473075" y="168275"/>
                  </a:cubicBezTo>
                  <a:lnTo>
                    <a:pt x="492125" y="180975"/>
                  </a:lnTo>
                  <a:cubicBezTo>
                    <a:pt x="495300" y="183092"/>
                    <a:pt x="498952" y="184627"/>
                    <a:pt x="501650" y="187325"/>
                  </a:cubicBezTo>
                  <a:cubicBezTo>
                    <a:pt x="508000" y="193675"/>
                    <a:pt x="513516" y="200987"/>
                    <a:pt x="520700" y="206375"/>
                  </a:cubicBezTo>
                  <a:cubicBezTo>
                    <a:pt x="524933" y="209550"/>
                    <a:pt x="529658" y="212158"/>
                    <a:pt x="533400" y="215900"/>
                  </a:cubicBezTo>
                  <a:cubicBezTo>
                    <a:pt x="536098" y="218598"/>
                    <a:pt x="537052" y="222727"/>
                    <a:pt x="539750" y="225425"/>
                  </a:cubicBezTo>
                  <a:cubicBezTo>
                    <a:pt x="558736" y="244411"/>
                    <a:pt x="546423" y="225467"/>
                    <a:pt x="561975" y="244475"/>
                  </a:cubicBezTo>
                  <a:cubicBezTo>
                    <a:pt x="576152" y="261803"/>
                    <a:pt x="581970" y="271293"/>
                    <a:pt x="593725" y="288925"/>
                  </a:cubicBezTo>
                  <a:cubicBezTo>
                    <a:pt x="595842" y="292100"/>
                    <a:pt x="598868" y="294830"/>
                    <a:pt x="600075" y="298450"/>
                  </a:cubicBezTo>
                  <a:cubicBezTo>
                    <a:pt x="604457" y="311595"/>
                    <a:pt x="601394" y="305190"/>
                    <a:pt x="609600" y="317500"/>
                  </a:cubicBezTo>
                  <a:cubicBezTo>
                    <a:pt x="616055" y="349775"/>
                    <a:pt x="609441" y="320120"/>
                    <a:pt x="615950" y="342900"/>
                  </a:cubicBezTo>
                  <a:cubicBezTo>
                    <a:pt x="618939" y="353362"/>
                    <a:pt x="620118" y="360563"/>
                    <a:pt x="622300" y="371475"/>
                  </a:cubicBezTo>
                  <a:cubicBezTo>
                    <a:pt x="621242" y="395817"/>
                    <a:pt x="621632" y="420265"/>
                    <a:pt x="619125" y="444500"/>
                  </a:cubicBezTo>
                  <a:cubicBezTo>
                    <a:pt x="617515" y="460059"/>
                    <a:pt x="608331" y="470216"/>
                    <a:pt x="600075" y="482600"/>
                  </a:cubicBezTo>
                  <a:cubicBezTo>
                    <a:pt x="595012" y="490195"/>
                    <a:pt x="591978" y="496094"/>
                    <a:pt x="584200" y="501650"/>
                  </a:cubicBezTo>
                  <a:cubicBezTo>
                    <a:pt x="580349" y="504401"/>
                    <a:pt x="575559" y="505565"/>
                    <a:pt x="571500" y="508000"/>
                  </a:cubicBezTo>
                  <a:cubicBezTo>
                    <a:pt x="564956" y="511927"/>
                    <a:pt x="559854" y="518849"/>
                    <a:pt x="552450" y="520700"/>
                  </a:cubicBezTo>
                  <a:cubicBezTo>
                    <a:pt x="548217" y="521758"/>
                    <a:pt x="543836" y="522343"/>
                    <a:pt x="539750" y="523875"/>
                  </a:cubicBezTo>
                  <a:cubicBezTo>
                    <a:pt x="535318" y="525537"/>
                    <a:pt x="531400" y="528361"/>
                    <a:pt x="527050" y="530225"/>
                  </a:cubicBezTo>
                  <a:cubicBezTo>
                    <a:pt x="523974" y="531543"/>
                    <a:pt x="520700" y="532342"/>
                    <a:pt x="517525" y="533400"/>
                  </a:cubicBezTo>
                  <a:cubicBezTo>
                    <a:pt x="481542" y="532342"/>
                    <a:pt x="445473" y="532917"/>
                    <a:pt x="409575" y="530225"/>
                  </a:cubicBezTo>
                  <a:cubicBezTo>
                    <a:pt x="402900" y="529724"/>
                    <a:pt x="390525" y="523875"/>
                    <a:pt x="390525" y="523875"/>
                  </a:cubicBezTo>
                  <a:cubicBezTo>
                    <a:pt x="389187" y="522872"/>
                    <a:pt x="364154" y="503363"/>
                    <a:pt x="355600" y="498475"/>
                  </a:cubicBezTo>
                  <a:cubicBezTo>
                    <a:pt x="351491" y="496127"/>
                    <a:pt x="346959" y="494560"/>
                    <a:pt x="342900" y="492125"/>
                  </a:cubicBezTo>
                  <a:cubicBezTo>
                    <a:pt x="336356" y="488198"/>
                    <a:pt x="330200" y="483658"/>
                    <a:pt x="323850" y="479425"/>
                  </a:cubicBezTo>
                  <a:lnTo>
                    <a:pt x="304800" y="466725"/>
                  </a:lnTo>
                  <a:cubicBezTo>
                    <a:pt x="301625" y="464608"/>
                    <a:pt x="298328" y="462665"/>
                    <a:pt x="295275" y="460375"/>
                  </a:cubicBezTo>
                  <a:cubicBezTo>
                    <a:pt x="291042" y="457200"/>
                    <a:pt x="286881" y="453926"/>
                    <a:pt x="282575" y="450850"/>
                  </a:cubicBezTo>
                  <a:cubicBezTo>
                    <a:pt x="279470" y="448632"/>
                    <a:pt x="276363" y="446393"/>
                    <a:pt x="273050" y="444500"/>
                  </a:cubicBezTo>
                  <a:cubicBezTo>
                    <a:pt x="268941" y="442152"/>
                    <a:pt x="264201" y="440901"/>
                    <a:pt x="260350" y="438150"/>
                  </a:cubicBezTo>
                  <a:cubicBezTo>
                    <a:pt x="256696" y="435540"/>
                    <a:pt x="254613" y="431036"/>
                    <a:pt x="250825" y="428625"/>
                  </a:cubicBezTo>
                  <a:cubicBezTo>
                    <a:pt x="242839" y="423543"/>
                    <a:pt x="232118" y="422618"/>
                    <a:pt x="225425" y="415925"/>
                  </a:cubicBezTo>
                  <a:cubicBezTo>
                    <a:pt x="212814" y="403314"/>
                    <a:pt x="220256" y="407489"/>
                    <a:pt x="203200" y="403225"/>
                  </a:cubicBezTo>
                  <a:cubicBezTo>
                    <a:pt x="198967" y="400050"/>
                    <a:pt x="195233" y="396067"/>
                    <a:pt x="190500" y="393700"/>
                  </a:cubicBezTo>
                  <a:cubicBezTo>
                    <a:pt x="184513" y="390707"/>
                    <a:pt x="177019" y="391063"/>
                    <a:pt x="171450" y="387350"/>
                  </a:cubicBezTo>
                  <a:cubicBezTo>
                    <a:pt x="168275" y="385233"/>
                    <a:pt x="165498" y="382340"/>
                    <a:pt x="161925" y="381000"/>
                  </a:cubicBezTo>
                  <a:cubicBezTo>
                    <a:pt x="156872" y="379105"/>
                    <a:pt x="151256" y="379245"/>
                    <a:pt x="146050" y="377825"/>
                  </a:cubicBezTo>
                  <a:cubicBezTo>
                    <a:pt x="136364" y="375183"/>
                    <a:pt x="127000" y="371475"/>
                    <a:pt x="117475" y="368300"/>
                  </a:cubicBezTo>
                  <a:cubicBezTo>
                    <a:pt x="114300" y="367242"/>
                    <a:pt x="111283" y="365428"/>
                    <a:pt x="107950" y="365125"/>
                  </a:cubicBezTo>
                  <a:cubicBezTo>
                    <a:pt x="48783" y="359746"/>
                    <a:pt x="84715" y="361950"/>
                    <a:pt x="0" y="36195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Oval 2"/>
          <p:cNvSpPr/>
          <p:nvPr/>
        </p:nvSpPr>
        <p:spPr>
          <a:xfrm>
            <a:off x="1787400" y="5438880"/>
            <a:ext cx="46080" cy="44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42"/>
          <p:cNvSpPr/>
          <p:nvPr/>
        </p:nvSpPr>
        <p:spPr>
          <a:xfrm>
            <a:off x="1940040" y="5473800"/>
            <a:ext cx="46080" cy="44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43"/>
          <p:cNvSpPr/>
          <p:nvPr/>
        </p:nvSpPr>
        <p:spPr>
          <a:xfrm>
            <a:off x="2031840" y="5511960"/>
            <a:ext cx="46080" cy="44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44"/>
          <p:cNvSpPr/>
          <p:nvPr/>
        </p:nvSpPr>
        <p:spPr>
          <a:xfrm>
            <a:off x="2095560" y="5565600"/>
            <a:ext cx="46080" cy="44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45"/>
          <p:cNvSpPr/>
          <p:nvPr/>
        </p:nvSpPr>
        <p:spPr>
          <a:xfrm>
            <a:off x="2185920" y="5661000"/>
            <a:ext cx="46080" cy="46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46"/>
          <p:cNvSpPr/>
          <p:nvPr/>
        </p:nvSpPr>
        <p:spPr>
          <a:xfrm>
            <a:off x="2206800" y="5811840"/>
            <a:ext cx="44280" cy="46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47"/>
          <p:cNvSpPr/>
          <p:nvPr/>
        </p:nvSpPr>
        <p:spPr>
          <a:xfrm>
            <a:off x="2093760" y="5891040"/>
            <a:ext cx="46080" cy="46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48"/>
          <p:cNvSpPr/>
          <p:nvPr/>
        </p:nvSpPr>
        <p:spPr>
          <a:xfrm>
            <a:off x="1938240" y="5862600"/>
            <a:ext cx="46080" cy="46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49"/>
          <p:cNvSpPr/>
          <p:nvPr/>
        </p:nvSpPr>
        <p:spPr>
          <a:xfrm>
            <a:off x="1866960" y="5811840"/>
            <a:ext cx="46080" cy="46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50"/>
          <p:cNvSpPr/>
          <p:nvPr/>
        </p:nvSpPr>
        <p:spPr>
          <a:xfrm>
            <a:off x="1789200" y="5764320"/>
            <a:ext cx="46080" cy="44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51"/>
          <p:cNvSpPr/>
          <p:nvPr/>
        </p:nvSpPr>
        <p:spPr>
          <a:xfrm>
            <a:off x="1633680" y="5718240"/>
            <a:ext cx="45720" cy="46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52"/>
          <p:cNvSpPr/>
          <p:nvPr/>
        </p:nvSpPr>
        <p:spPr>
          <a:xfrm>
            <a:off x="1641600" y="5367240"/>
            <a:ext cx="46080" cy="46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3"/>
          <p:cNvSpPr/>
          <p:nvPr/>
        </p:nvSpPr>
        <p:spPr>
          <a:xfrm>
            <a:off x="3149640" y="4570560"/>
            <a:ext cx="482400" cy="64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54"/>
          <p:cNvSpPr/>
          <p:nvPr/>
        </p:nvSpPr>
        <p:spPr>
          <a:xfrm>
            <a:off x="3149640" y="4635360"/>
            <a:ext cx="482400" cy="6516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55"/>
          <p:cNvSpPr/>
          <p:nvPr/>
        </p:nvSpPr>
        <p:spPr>
          <a:xfrm>
            <a:off x="3149640" y="4700520"/>
            <a:ext cx="482400" cy="651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56"/>
          <p:cNvSpPr/>
          <p:nvPr/>
        </p:nvSpPr>
        <p:spPr>
          <a:xfrm>
            <a:off x="3149640" y="4762440"/>
            <a:ext cx="482400" cy="651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57"/>
          <p:cNvSpPr/>
          <p:nvPr/>
        </p:nvSpPr>
        <p:spPr>
          <a:xfrm>
            <a:off x="3149640" y="4827600"/>
            <a:ext cx="482400" cy="651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58"/>
          <p:cNvSpPr/>
          <p:nvPr/>
        </p:nvSpPr>
        <p:spPr>
          <a:xfrm>
            <a:off x="3149640" y="4890960"/>
            <a:ext cx="482400" cy="651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59"/>
          <p:cNvSpPr/>
          <p:nvPr/>
        </p:nvSpPr>
        <p:spPr>
          <a:xfrm>
            <a:off x="3149640" y="4952880"/>
            <a:ext cx="482400" cy="651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60"/>
          <p:cNvSpPr/>
          <p:nvPr/>
        </p:nvSpPr>
        <p:spPr>
          <a:xfrm>
            <a:off x="3149640" y="5018040"/>
            <a:ext cx="482400" cy="651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63"/>
          <p:cNvSpPr/>
          <p:nvPr/>
        </p:nvSpPr>
        <p:spPr>
          <a:xfrm>
            <a:off x="3149640" y="5073480"/>
            <a:ext cx="482400" cy="651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64"/>
          <p:cNvSpPr/>
          <p:nvPr/>
        </p:nvSpPr>
        <p:spPr>
          <a:xfrm>
            <a:off x="3149640" y="5138640"/>
            <a:ext cx="482400" cy="6516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65"/>
          <p:cNvSpPr/>
          <p:nvPr/>
        </p:nvSpPr>
        <p:spPr>
          <a:xfrm>
            <a:off x="3149640" y="5203800"/>
            <a:ext cx="482400" cy="651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66"/>
          <p:cNvSpPr/>
          <p:nvPr/>
        </p:nvSpPr>
        <p:spPr>
          <a:xfrm>
            <a:off x="3149640" y="5265720"/>
            <a:ext cx="482400" cy="651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67"/>
          <p:cNvSpPr/>
          <p:nvPr/>
        </p:nvSpPr>
        <p:spPr>
          <a:xfrm>
            <a:off x="3149640" y="5330880"/>
            <a:ext cx="482400" cy="651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68"/>
          <p:cNvSpPr/>
          <p:nvPr/>
        </p:nvSpPr>
        <p:spPr>
          <a:xfrm>
            <a:off x="3149640" y="5394240"/>
            <a:ext cx="482400" cy="651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69"/>
          <p:cNvSpPr/>
          <p:nvPr/>
        </p:nvSpPr>
        <p:spPr>
          <a:xfrm>
            <a:off x="3149640" y="5456160"/>
            <a:ext cx="482400" cy="651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70"/>
          <p:cNvSpPr/>
          <p:nvPr/>
        </p:nvSpPr>
        <p:spPr>
          <a:xfrm>
            <a:off x="3149640" y="5521320"/>
            <a:ext cx="482400" cy="651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72"/>
          <p:cNvSpPr/>
          <p:nvPr/>
        </p:nvSpPr>
        <p:spPr>
          <a:xfrm>
            <a:off x="3149640" y="5586480"/>
            <a:ext cx="482400" cy="651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73"/>
          <p:cNvSpPr/>
          <p:nvPr/>
        </p:nvSpPr>
        <p:spPr>
          <a:xfrm>
            <a:off x="3149640" y="5651640"/>
            <a:ext cx="482400" cy="648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74"/>
          <p:cNvSpPr/>
          <p:nvPr/>
        </p:nvSpPr>
        <p:spPr>
          <a:xfrm>
            <a:off x="3149640" y="5716440"/>
            <a:ext cx="482400" cy="651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75"/>
          <p:cNvSpPr/>
          <p:nvPr/>
        </p:nvSpPr>
        <p:spPr>
          <a:xfrm>
            <a:off x="3149640" y="5778360"/>
            <a:ext cx="482400" cy="651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76"/>
          <p:cNvSpPr/>
          <p:nvPr/>
        </p:nvSpPr>
        <p:spPr>
          <a:xfrm>
            <a:off x="3149640" y="5843520"/>
            <a:ext cx="482400" cy="651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77"/>
          <p:cNvSpPr/>
          <p:nvPr/>
        </p:nvSpPr>
        <p:spPr>
          <a:xfrm>
            <a:off x="3149640" y="5907240"/>
            <a:ext cx="482400" cy="648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78"/>
          <p:cNvSpPr/>
          <p:nvPr/>
        </p:nvSpPr>
        <p:spPr>
          <a:xfrm>
            <a:off x="3149640" y="5969160"/>
            <a:ext cx="482400" cy="648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79"/>
          <p:cNvSpPr/>
          <p:nvPr/>
        </p:nvSpPr>
        <p:spPr>
          <a:xfrm>
            <a:off x="3149640" y="6033960"/>
            <a:ext cx="482400" cy="651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traight Connector 6"/>
          <p:cNvSpPr/>
          <p:nvPr/>
        </p:nvSpPr>
        <p:spPr>
          <a:xfrm flipV="1">
            <a:off x="1647720" y="4603320"/>
            <a:ext cx="1501920" cy="80172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traight Connector 8"/>
          <p:cNvSpPr/>
          <p:nvPr/>
        </p:nvSpPr>
        <p:spPr>
          <a:xfrm flipV="1">
            <a:off x="1827360" y="5105520"/>
            <a:ext cx="1322280" cy="37152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traight Connector 10"/>
          <p:cNvSpPr/>
          <p:nvPr/>
        </p:nvSpPr>
        <p:spPr>
          <a:xfrm flipH="1" flipV="1">
            <a:off x="1945800" y="5479920"/>
            <a:ext cx="1203480" cy="13824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87"/>
          <p:cNvSpPr/>
          <p:nvPr/>
        </p:nvSpPr>
        <p:spPr>
          <a:xfrm>
            <a:off x="2563920" y="2763720"/>
            <a:ext cx="482400" cy="651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88"/>
          <p:cNvSpPr/>
          <p:nvPr/>
        </p:nvSpPr>
        <p:spPr>
          <a:xfrm>
            <a:off x="2563920" y="2828880"/>
            <a:ext cx="482400" cy="6516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89"/>
          <p:cNvSpPr/>
          <p:nvPr/>
        </p:nvSpPr>
        <p:spPr>
          <a:xfrm>
            <a:off x="2563920" y="2894040"/>
            <a:ext cx="482400" cy="651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90"/>
          <p:cNvSpPr/>
          <p:nvPr/>
        </p:nvSpPr>
        <p:spPr>
          <a:xfrm>
            <a:off x="2563920" y="2955960"/>
            <a:ext cx="482400" cy="651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91"/>
          <p:cNvSpPr/>
          <p:nvPr/>
        </p:nvSpPr>
        <p:spPr>
          <a:xfrm>
            <a:off x="2563920" y="3021120"/>
            <a:ext cx="482400" cy="651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92"/>
          <p:cNvSpPr/>
          <p:nvPr/>
        </p:nvSpPr>
        <p:spPr>
          <a:xfrm>
            <a:off x="2563920" y="3084480"/>
            <a:ext cx="482400" cy="651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93"/>
          <p:cNvSpPr/>
          <p:nvPr/>
        </p:nvSpPr>
        <p:spPr>
          <a:xfrm>
            <a:off x="2563920" y="3146400"/>
            <a:ext cx="482400" cy="651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94"/>
          <p:cNvSpPr/>
          <p:nvPr/>
        </p:nvSpPr>
        <p:spPr>
          <a:xfrm>
            <a:off x="2563920" y="3211560"/>
            <a:ext cx="482400" cy="651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1" descr=""/>
          <p:cNvPicPr/>
          <p:nvPr/>
        </p:nvPicPr>
        <p:blipFill>
          <a:blip r:embed="rId1"/>
          <a:stretch/>
        </p:blipFill>
        <p:spPr>
          <a:xfrm>
            <a:off x="3840120" y="3843360"/>
            <a:ext cx="2349720" cy="234936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83" descr=""/>
          <p:cNvPicPr/>
          <p:nvPr/>
        </p:nvPicPr>
        <p:blipFill>
          <a:blip r:embed="rId2"/>
          <a:stretch/>
        </p:blipFill>
        <p:spPr>
          <a:xfrm>
            <a:off x="4114800" y="3565440"/>
            <a:ext cx="2349360" cy="23497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84" descr=""/>
          <p:cNvPicPr/>
          <p:nvPr/>
        </p:nvPicPr>
        <p:blipFill>
          <a:blip r:embed="rId3"/>
          <a:stretch/>
        </p:blipFill>
        <p:spPr>
          <a:xfrm>
            <a:off x="4389480" y="3292560"/>
            <a:ext cx="2349360" cy="234792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85" descr=""/>
          <p:cNvPicPr/>
          <p:nvPr/>
        </p:nvPicPr>
        <p:blipFill>
          <a:blip r:embed="rId4"/>
          <a:stretch/>
        </p:blipFill>
        <p:spPr>
          <a:xfrm>
            <a:off x="4664160" y="3017880"/>
            <a:ext cx="2347920" cy="234936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95" descr=""/>
          <p:cNvPicPr/>
          <p:nvPr/>
        </p:nvPicPr>
        <p:blipFill>
          <a:blip r:embed="rId5"/>
          <a:stretch/>
        </p:blipFill>
        <p:spPr>
          <a:xfrm>
            <a:off x="4937040" y="2743200"/>
            <a:ext cx="2349720" cy="234936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96" descr=""/>
          <p:cNvPicPr/>
          <p:nvPr/>
        </p:nvPicPr>
        <p:blipFill>
          <a:blip r:embed="rId6"/>
          <a:stretch/>
        </p:blipFill>
        <p:spPr>
          <a:xfrm>
            <a:off x="5211720" y="2468520"/>
            <a:ext cx="2349720" cy="23497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97" descr=""/>
          <p:cNvPicPr/>
          <p:nvPr/>
        </p:nvPicPr>
        <p:blipFill>
          <a:blip r:embed="rId7"/>
          <a:stretch/>
        </p:blipFill>
        <p:spPr>
          <a:xfrm>
            <a:off x="5486400" y="2193840"/>
            <a:ext cx="2349360" cy="234972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98" descr=""/>
          <p:cNvPicPr/>
          <p:nvPr/>
        </p:nvPicPr>
        <p:blipFill>
          <a:blip r:embed="rId8"/>
          <a:stretch/>
        </p:blipFill>
        <p:spPr>
          <a:xfrm>
            <a:off x="5761080" y="1920960"/>
            <a:ext cx="234936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34720" y="1004400"/>
            <a:ext cx="5303880" cy="7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 resolved data-acquisition (3D fly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= 5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1" descr=""/>
          <p:cNvPicPr/>
          <p:nvPr/>
        </p:nvPicPr>
        <p:blipFill>
          <a:blip r:embed="rId1"/>
          <a:stretch/>
        </p:blipFill>
        <p:spPr>
          <a:xfrm>
            <a:off x="5411880" y="965160"/>
            <a:ext cx="3081240" cy="52642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2" descr=""/>
          <p:cNvPicPr/>
          <p:nvPr/>
        </p:nvPicPr>
        <p:blipFill>
          <a:blip r:embed="rId2"/>
          <a:stretch/>
        </p:blipFill>
        <p:spPr>
          <a:xfrm>
            <a:off x="401760" y="1773360"/>
            <a:ext cx="405900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http://zedboard.org/sites/default/files/styles/product_slider/public/product/IMG_0015_0_0.png?itok=co0OGp3p"/>
          <p:cNvPicPr/>
          <p:nvPr/>
        </p:nvPicPr>
        <p:blipFill>
          <a:blip r:embed="rId1"/>
          <a:stretch/>
        </p:blipFill>
        <p:spPr>
          <a:xfrm>
            <a:off x="5140440" y="1488960"/>
            <a:ext cx="3038400" cy="246708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2"/>
          <p:cNvSpPr/>
          <p:nvPr/>
        </p:nvSpPr>
        <p:spPr>
          <a:xfrm>
            <a:off x="650880" y="1952640"/>
            <a:ext cx="1239840" cy="1503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50880" y="2136600"/>
            <a:ext cx="1239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M process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2643120" y="1969920"/>
            <a:ext cx="1239840" cy="1503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Placeholder 1"/>
          <p:cNvSpPr/>
          <p:nvPr/>
        </p:nvSpPr>
        <p:spPr>
          <a:xfrm>
            <a:off x="2643120" y="2155680"/>
            <a:ext cx="123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PG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eft-Right Arrow 3"/>
          <p:cNvSpPr/>
          <p:nvPr/>
        </p:nvSpPr>
        <p:spPr>
          <a:xfrm>
            <a:off x="2006640" y="2265480"/>
            <a:ext cx="520560" cy="182520"/>
          </a:xfrm>
          <a:prstGeom prst="leftRightArrow">
            <a:avLst>
              <a:gd name="adj1" fmla="val 50000"/>
              <a:gd name="adj2" fmla="val 49990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eft-Right Arrow 9"/>
          <p:cNvSpPr/>
          <p:nvPr/>
        </p:nvSpPr>
        <p:spPr>
          <a:xfrm>
            <a:off x="2006640" y="2766960"/>
            <a:ext cx="520560" cy="274680"/>
          </a:xfrm>
          <a:prstGeom prst="leftRightArrow">
            <a:avLst>
              <a:gd name="adj1" fmla="val 50000"/>
              <a:gd name="adj2" fmla="val 49826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407880" y="1677960"/>
            <a:ext cx="3738600" cy="2022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Placeholder 1"/>
          <p:cNvSpPr/>
          <p:nvPr/>
        </p:nvSpPr>
        <p:spPr>
          <a:xfrm>
            <a:off x="650880" y="4000680"/>
            <a:ext cx="123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PICS IO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Placeholder 1"/>
          <p:cNvSpPr/>
          <p:nvPr/>
        </p:nvSpPr>
        <p:spPr>
          <a:xfrm>
            <a:off x="2490840" y="3997440"/>
            <a:ext cx="154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ftGlueZynq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Placeholder 1"/>
          <p:cNvSpPr/>
          <p:nvPr/>
        </p:nvSpPr>
        <p:spPr>
          <a:xfrm>
            <a:off x="182520" y="4484520"/>
            <a:ext cx="2028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~Everything in synApps that doesn’t need VME hardwa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Placeholder 1"/>
          <p:cNvSpPr/>
          <p:nvPr/>
        </p:nvSpPr>
        <p:spPr>
          <a:xfrm>
            <a:off x="2343240" y="4491000"/>
            <a:ext cx="1839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write of softGlue for the Xilinx Zynq chi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Placeholder 1"/>
          <p:cNvSpPr/>
          <p:nvPr/>
        </p:nvSpPr>
        <p:spPr>
          <a:xfrm>
            <a:off x="1643040" y="1652760"/>
            <a:ext cx="12398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YNQ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Placeholder 1"/>
          <p:cNvSpPr/>
          <p:nvPr/>
        </p:nvSpPr>
        <p:spPr>
          <a:xfrm>
            <a:off x="5230800" y="4479840"/>
            <a:ext cx="2855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ployed and maintained in much the same way as a VME or Linux IO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ounded Rectangle 1"/>
          <p:cNvSpPr/>
          <p:nvPr/>
        </p:nvSpPr>
        <p:spPr>
          <a:xfrm>
            <a:off x="258840" y="3956040"/>
            <a:ext cx="1952640" cy="1606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ounded Rectangle 17"/>
          <p:cNvSpPr/>
          <p:nvPr/>
        </p:nvSpPr>
        <p:spPr>
          <a:xfrm>
            <a:off x="2359080" y="3948120"/>
            <a:ext cx="1824120" cy="1606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GlueZynq enables beamline users to construct simple digital electronic circuits, and connect those circuits to field wiring, by writing to EPICS process variables (PVs)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GlueZynq also provides user control over how hardware interrupts are generated by field I/O signals, and dispatched to cause EPICS processing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GlueZynq circuits can be autosaved and restored, saved as text files, emailed to another user, and managed by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nfigMenu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GlueZynq does this by loading an Xilinx Zynq FPGA with a predefined collection of circuit elements (logic gates, counters, flip-flops, etc.), whose inputs and outputs are connected to switches controlled by EPICS PV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EDM display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6681960" y="1003320"/>
            <a:ext cx="1711080" cy="30081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6905520" y="4435560"/>
            <a:ext cx="1136880" cy="10270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" descr=""/>
          <p:cNvPicPr/>
          <p:nvPr/>
        </p:nvPicPr>
        <p:blipFill>
          <a:blip r:embed="rId3"/>
          <a:stretch/>
        </p:blipFill>
        <p:spPr>
          <a:xfrm>
            <a:off x="228600" y="1003320"/>
            <a:ext cx="6377040" cy="46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How it works, conceptually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http://www.aps.anl.gov/bcda/synApps/softGlue/AND.gif"/>
          <p:cNvPicPr/>
          <p:nvPr/>
        </p:nvPicPr>
        <p:blipFill>
          <a:blip r:embed="rId1"/>
          <a:stretch/>
        </p:blipFill>
        <p:spPr>
          <a:xfrm>
            <a:off x="2378160" y="1349280"/>
            <a:ext cx="3924360" cy="1200240"/>
          </a:xfrm>
          <a:prstGeom prst="rect">
            <a:avLst/>
          </a:prstGeom>
          <a:ln w="0">
            <a:noFill/>
          </a:ln>
        </p:spPr>
      </p:pic>
      <p:sp>
        <p:nvSpPr>
          <p:cNvPr id="126" name="Straight Connector 4"/>
          <p:cNvSpPr/>
          <p:nvPr/>
        </p:nvSpPr>
        <p:spPr>
          <a:xfrm flipV="1">
            <a:off x="1380960" y="2368440"/>
            <a:ext cx="1719360" cy="79704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traight Connector 8"/>
          <p:cNvSpPr/>
          <p:nvPr/>
        </p:nvSpPr>
        <p:spPr>
          <a:xfrm flipH="1" flipV="1">
            <a:off x="5473440" y="2260440"/>
            <a:ext cx="1825560" cy="90504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" descr=""/>
          <p:cNvPicPr/>
          <p:nvPr/>
        </p:nvPicPr>
        <p:blipFill>
          <a:blip r:embed="rId2"/>
          <a:stretch/>
        </p:blipFill>
        <p:spPr>
          <a:xfrm>
            <a:off x="944640" y="3165480"/>
            <a:ext cx="72547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ircuit-element inputs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http://www.aps.anl.gov/bcda/synApps/softGlue/AND.gif"/>
          <p:cNvPicPr/>
          <p:nvPr/>
        </p:nvPicPr>
        <p:blipFill>
          <a:blip r:embed="rId1"/>
          <a:stretch/>
        </p:blipFill>
        <p:spPr>
          <a:xfrm>
            <a:off x="2378160" y="1133640"/>
            <a:ext cx="3924360" cy="1199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1" name=""/>
          <p:cNvGraphicFramePr/>
          <p:nvPr/>
        </p:nvGraphicFramePr>
        <p:xfrm>
          <a:off x="228600" y="2530440"/>
          <a:ext cx="8508960" cy="2844720"/>
        </p:xfrm>
        <a:graphic>
          <a:graphicData uri="http://schemas.openxmlformats.org/drawingml/2006/table">
            <a:tbl>
              <a:tblPr/>
              <a:tblGrid>
                <a:gridCol w="1282680"/>
                <a:gridCol w="1460520"/>
                <a:gridCol w="4554360"/>
                <a:gridCol w="12114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pl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ul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men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ty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!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!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9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itive-going puls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-going puls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3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3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Signa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ed to all other inputs and output named “mySignal”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132" name="Oval 6"/>
          <p:cNvSpPr/>
          <p:nvPr/>
        </p:nvSpPr>
        <p:spPr>
          <a:xfrm>
            <a:off x="2378160" y="1922400"/>
            <a:ext cx="1495440" cy="282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eld I/O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76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nected just as are circuit ele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rupt can drive EPICS record on rising edg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" descr=""/>
          <p:cNvPicPr/>
          <p:nvPr/>
        </p:nvPicPr>
        <p:blipFill>
          <a:blip r:embed="rId1"/>
          <a:stretch/>
        </p:blipFill>
        <p:spPr>
          <a:xfrm>
            <a:off x="378000" y="1963800"/>
            <a:ext cx="8565840" cy="38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dditional circuit elements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560" y="1223640"/>
            <a:ext cx="3676680" cy="28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drature decod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 encoder or interfero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p/Dn Coun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 output signals from quadrature deco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http://www.aps.anl.gov/bcda/synApps/softGlue/UpDnCntr.gif"/>
          <p:cNvPicPr/>
          <p:nvPr/>
        </p:nvPicPr>
        <p:blipFill>
          <a:blip r:embed="rId1"/>
          <a:stretch/>
        </p:blipFill>
        <p:spPr>
          <a:xfrm>
            <a:off x="4651200" y="2457360"/>
            <a:ext cx="4013280" cy="18604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http://www.aps.anl.gov/bcda/synApps/softGlue/QuadDec.gif"/>
          <p:cNvPicPr/>
          <p:nvPr/>
        </p:nvPicPr>
        <p:blipFill>
          <a:blip r:embed="rId2"/>
          <a:stretch/>
        </p:blipFill>
        <p:spPr>
          <a:xfrm>
            <a:off x="4651200" y="982800"/>
            <a:ext cx="4013280" cy="133164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304920" y="4764240"/>
            <a:ext cx="7665840" cy="14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ombination of these two can track an encode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itional Up/Dn counter can generate triggers every 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ncoder puls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dditional circuit elements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560" y="1223640"/>
            <a:ext cx="4638600" cy="28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te&amp;Delay Gen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 a sig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ally, specify output pulse wid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 ns time resolution (fast version has ~1 ns time resolution, but is buggy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5073480" y="1057320"/>
            <a:ext cx="3591000" cy="1096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" descr=""/>
          <p:cNvPicPr/>
          <p:nvPr/>
        </p:nvPicPr>
        <p:blipFill>
          <a:blip r:embed="rId2"/>
          <a:stretch/>
        </p:blipFill>
        <p:spPr>
          <a:xfrm>
            <a:off x="4651200" y="4205160"/>
            <a:ext cx="4013280" cy="122868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3"/>
          <p:cNvSpPr/>
          <p:nvPr/>
        </p:nvSpPr>
        <p:spPr>
          <a:xfrm>
            <a:off x="304920" y="4433760"/>
            <a:ext cx="367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4272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quency Coun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07T18:00:42Z</dcterms:created>
  <dc:creator>Andrew Johnson</dc:creator>
  <dc:description/>
  <cp:keywords/>
  <dc:language>en-US</dc:language>
  <cp:lastModifiedBy>Mooney, Tim M.</cp:lastModifiedBy>
  <cp:lastPrinted>1999-05-26T16:24:32Z</cp:lastPrinted>
  <dcterms:modified xsi:type="dcterms:W3CDTF">2017-03-16T17:50:54Z</dcterms:modified>
  <cp:revision>456</cp:revision>
  <dc:subject/>
  <dc:title>What is an EPICS database?</dc:title>
</cp:coreProperties>
</file>